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EE20-A787-4933-BD4B-FCDBDEA0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F34-3046-452B-BD5A-554603E9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096-4D79-43CA-85E3-D1828F11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17BF-2389-4DB5-8950-7A06340E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D70-35AB-4A16-889A-D7F782CA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D378-DFD4-4A3F-9CC0-2B63DD41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9611-1919-4104-BB4E-0FEF0E51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F0C5-77B2-404A-B3E9-EDEA4741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C2A-C946-4E89-AC3A-4FFB044F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A5E-E298-4D05-AB79-8C181772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947-4EAA-4599-9506-B29736C6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76CE-9B09-4A62-B1EA-CB57A598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1EE3-7AAA-4FE5-85BA-19AA4E923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4591080" cy="4591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opographic map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ads and trai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re man-made features shown in black or r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ls are represented as thin single dashed lines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ds are represented as double lines or thicker red lines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uildin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re shown in black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id squares usually indicate buildings that would be inhabited by people (i.e. a hou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low shapes usually indicate uninhabited buildings (for example, a bar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ch marks indicate places where the elevation has actually been surveyed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ymbol "BM" and a number which represents the elevation of that particular location is present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ch marks are shown in black on topographic maps.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ome helpful hint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 brown lines represent contours or points of similar elevation. The closer together they are, the steeper the terrai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our lines form "v" shapes in valleys or along streambeds. The point of the "v" points uphill, therefore the river/stream flows in the opposite direct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ome helpful hint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ale on 1:24,000 topographic maps means that one inch equals 2000 fe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le markings are those that have been photo-revised or added to the map since the original map was publishe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at is a topographic map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that shows topography and features found on the earth's surfa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ntour lin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re lines that indicate elevation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s that show the topography on the map.  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our lines are shown in brown.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mbers written in brown along the contour lines indicate elevation of the line.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orested are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re represented by areas shaded gre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ea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other water features are shown in b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23:29:38Z</dcterms:created>
  <dc:creator>Chelsea</dc:creator>
  <dc:description/>
  <dc:language>en-US</dc:language>
  <cp:lastModifiedBy>barnesc</cp:lastModifiedBy>
  <dcterms:modified xsi:type="dcterms:W3CDTF">2009-01-27T14:21:12Z</dcterms:modified>
  <cp:revision>2</cp:revision>
  <dc:subject/>
  <dc:title>Topographic maps</dc:title>
</cp:coreProperties>
</file>