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EE6-AB96-49A5-A2C8-6AB4D3A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7D0-079B-4BCE-8FB1-9788F78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7A2-2BD2-4B4B-BB5B-FAD9805A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540-0C8E-4A10-AE7A-B9E66D64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7AE-A3C3-4DCC-A915-89D4442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736-04FE-4E8D-9C81-707379EE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AF5-70B5-470E-B4F9-C0E2E57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6B4-A6B1-4E0E-B513-F002220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FC1-AFF7-46A6-9C44-9425FEFC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1C2-D379-4D1B-96CB-B3FA662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EED-BF61-4DAB-95C5-2680E6C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9B4-AB98-43A5-9336-1433515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CA0-E138-4B6D-9952-5856C919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591080" cy="459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ads and t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man-made features shown in black or 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ls are represented as thin single dash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s are represented as double lines or thicker r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ild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shown in black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 squares usually indicate buildings that would be inhabited by people (i.e. a hou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low shapes usually indicate uninhabited buildings (for example, a ba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indicate places where the elevation has actually been surveyed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ymbol "BM" and a number which represents the elevation of that particular location is present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are shown in black on topographic maps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 brown lines represent contours or points of similar elevation. The closer together they are, the steeper the terr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form "v" shapes in valleys or along streambeds. The point of the "v" points uphill, therefore the river/stream flows in the opposite direc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ale on 1:24,000 topographic maps means that one inch equals 2000 fe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markings are those that have been photo-revised or added to the map since the original map was publish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topographic ma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hat shows topography and features found on the earth's surf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our 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lines that indicate elevatio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that show the topography on the map. 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are shown in brow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s written in brown along the contour lines indicate elevation of the lin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ested are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represented by areas shaded gr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 water features are shown in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3:29:38Z</dcterms:created>
  <dc:creator>Chelsea</dc:creator>
  <dc:description/>
  <dc:language>en-US</dc:language>
  <cp:lastModifiedBy>barnesc</cp:lastModifiedBy>
  <dcterms:modified xsi:type="dcterms:W3CDTF">2009-01-27T14:21:12Z</dcterms:modified>
  <cp:revision>2</cp:revision>
  <dc:subject/>
  <dc:title>Topographic maps</dc:title>
</cp:coreProperties>
</file>