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605-E744-47FB-870D-F33CE94C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6C1-7917-470F-B899-F7E37263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870-B3D2-468E-95F5-26B82DBC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626-B48B-4378-9A16-0C51F639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BD7-76F4-4375-AB0B-6CAAC484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664-97EC-4795-AC1D-87B0EFD2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F6F-4392-4CCB-A1B0-2ED33A3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47D-54EF-43CB-8305-C73E4682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4B4-847D-4296-BC58-32BC6438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D4C-D81A-4943-939D-57E4D4FE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546-651D-493E-98B8-E5388C5D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E7F-301F-41BD-941F-C217CCB0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4739-429D-429E-B659-BCEECAB4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591080" cy="459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opographic ma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ads and tr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man-made features shown in black or 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ls are represented as thin single dashed lines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s are represented as double lines or thicker red lines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ild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shown in black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d squares usually indicate buildings that would be inhabited by people (i.e. a hou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low shapes usually indicate uninhabited buildings (for example, a bar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 marks indicate places where the elevation has actually been surveyed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ymbol "BM" and a number which represents the elevation of that particular location is present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 marks are shown in black on topographic maps.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helpful hin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 brown lines represent contours or points of similar elevation. The closer together they are, the steeper the terr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 lines form "v" shapes in valleys or along streambeds. The point of the "v" points uphill, therefore the river/stream flows in the opposite direc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helpful hin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ale on 1:24,000 topographic maps means that one inch equals 2000 fe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markings are those that have been photo-revised or added to the map since the original map was publish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a topographic map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hat shows topography and features found on the earth's surf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tour l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lines that indicate elevation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s that show the topography on the map.  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 lines are shown in brown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mbers written in brown along the contour lines indicate elevation of the line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rested are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represented by areas shaded gr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ea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other water features are shown in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3:29:38Z</dcterms:created>
  <dc:creator>Chelsea</dc:creator>
  <dc:description/>
  <dc:language>en-US</dc:language>
  <cp:lastModifiedBy>barnesc</cp:lastModifiedBy>
  <dcterms:modified xsi:type="dcterms:W3CDTF">2009-01-27T14:21:12Z</dcterms:modified>
  <cp:revision>2</cp:revision>
  <dc:subject/>
  <dc:title>Topographic maps</dc:title>
</cp:coreProperties>
</file>