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D96-4B23-4FA6-BFE4-2728D7FA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F61-5130-4C50-A263-A769306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D9C-447E-4D01-AB73-6D6BC234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40B-3678-4294-96F4-02F9FE8B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7C6-9135-4DE7-A296-9B8F2AC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408-6F8E-4FCB-A28C-AB953795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5CC-7935-4EAE-A65A-7F458738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6A4-D002-4BE2-AC6E-FE069EB0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E42-FADE-40BA-AB6F-A7E9F058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525-0162-402D-91B0-E659B12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59D-D5A8-4015-BBF8-86AA46C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B78-2699-42A7-AC6D-BEADF38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119-A29F-4901-BE13-07C314037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591080" cy="459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pographic ma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ads and t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man-made features shown in black or 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ls are represented as thin single dash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s are represented as double lines or thicker r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ild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shown in black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 squares usually indicate buildings that would be inhabited by people (i.e. a hou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low shapes usually indicate uninhabited buildings (for example, a ba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indicate places where the elevation has actually been surveyed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ymbol "BM" and a number which represents the elevation of that particular location is present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are shown in black on topographic maps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 brown lines represent contours or points of similar elevation. The closer together they are, the steeper the terr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form "v" shapes in valleys or along streambeds. The point of the "v" points uphill, therefore the river/stream flows in the opposite direc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ale on 1:24,000 topographic maps means that one inch equals 2000 fe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markings are those that have been photo-revised or added to the map since the original map was publish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topographic ma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hat shows topography and features found on the earth's surf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our l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lines that indicate elevatio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s that show the topography on the map.  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are shown in brow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mbers written in brown along the contour lines indicate elevation of the lin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ested are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represented by areas shaded gr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other water features are shown in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3:29:38Z</dcterms:created>
  <dc:creator>Chelsea</dc:creator>
  <dc:description/>
  <dc:language>en-US</dc:language>
  <cp:lastModifiedBy>barnesc</cp:lastModifiedBy>
  <dcterms:modified xsi:type="dcterms:W3CDTF">2009-01-27T14:21:12Z</dcterms:modified>
  <cp:revision>2</cp:revision>
  <dc:subject/>
  <dc:title>Topographic maps</dc:title>
</cp:coreProperties>
</file>