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D9F-C8CF-4BEB-9FFB-D57A5DF6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F94-8068-4372-B04B-895E65D2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EDE-4D77-4D27-A292-7E05414F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C35-0200-420A-97AD-7E31FE52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BA4-8CE3-4F41-B4BA-C40B7DF4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2A4-5A36-48B4-B022-9D26A1E0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F513-8218-4D4C-8AC6-32732BBA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FDC-7B2F-49DF-9D73-D5C2B454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1E9-01CF-45F7-A956-FFF877EF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653-DAFA-47C3-A05B-F111D587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590-2E7A-4B79-AD76-6B9C1CF9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E91-81C1-492D-AA78-2433DB75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5035-1626-49F8-92D9-168B69311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1.2 The Way Science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305257"/>
          <p:cNvPicPr/>
          <p:nvPr/>
        </p:nvPicPr>
        <p:blipFill>
          <a:blip r:embed="rId1"/>
          <a:stretch/>
        </p:blipFill>
        <p:spPr>
          <a:xfrm>
            <a:off x="3429000" y="3124080"/>
            <a:ext cx="2181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anything that can change in a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ight microscop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uses lenses to magnify very small objects, such as bacteria or details of larger objects, such as the structure of le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elescop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lenses and mirrors to magnify objects that appear small because they are far away such as stars or plan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Radio telescope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tect radio signals emitted by distant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ctrophotometers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light into a rainbow like spectru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cientific too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icle accelerators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ake fragments of atoms move extremely fast, then let them smash into atoms or part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the straight line distance between any two poi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a measure of the quantity of matter in an objec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a measure of space, such as the capacity of contain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- the force with which gravity pulls on a quantity of matt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st three examples each of things that are commonly measured by mass, by volume, and by length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plain why the scientific method is said to be very similar to critical thinking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scribe a hypothesis and how it is used. Give an example of a hypothesi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VIEW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why no experiment should be called a fail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 the discussion of scientists’ tools to how science and technology depend on each 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itical thinking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application of logic and reason to observations and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20071210_ScientificMethod"/>
          <p:cNvPicPr/>
          <p:nvPr/>
        </p:nvPicPr>
        <p:blipFill>
          <a:blip r:embed="rId1"/>
          <a:stretch/>
        </p:blipFill>
        <p:spPr>
          <a:xfrm>
            <a:off x="174636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k a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start with: How, What, When, Who, Which, Why, or Whe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uld be something that you can measure, preferably with a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 background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library and Internet research to help you find the best way to do things and insure that you don't repeat mistakes from the pa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t a 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ypothesis is an educated guess about how things work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"If _____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[I do this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_____, then _____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[this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 will happen.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st your hypothesis by doing an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experiment tests whether your hypothesis is true or false. Make sure that you change only one factor at a time while keeping all other conditions the sam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eat several times to conclude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yze your data and draw a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your experiment is complete, you collect your measurements and analyze them to see if your hypothesis is true or fals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e you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scientists publish their final report in a scientific journal or present their results on a poster at a scientific mee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3:00:51Z</dcterms:created>
  <dc:creator>Chelsea</dc:creator>
  <dc:description/>
  <dc:language>en-US</dc:language>
  <cp:lastModifiedBy>geistc</cp:lastModifiedBy>
  <dcterms:modified xsi:type="dcterms:W3CDTF">2013-09-03T16:14:36Z</dcterms:modified>
  <cp:revision>24</cp:revision>
  <dc:subject/>
  <dc:title>The Scientific Method</dc:title>
</cp:coreProperties>
</file>