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792-11C0-46B9-A74A-3E9638A5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B7E-675E-45D5-9FCF-BB72EA5B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9DB-FD2F-4A6E-A0A5-5F0BD485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DBB-B8D1-4C5B-BB22-89581EAB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2E8D-D04B-435B-93D6-0FB1CDF8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0E1-F5CA-422C-B6A4-F961A7B2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E7F-51FC-46A4-9D03-979CD8A0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34D-B685-4D21-9274-2CC8BC30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112-4E19-437B-9A83-64FED2D2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A86-17FC-4657-8ADA-9F3E9852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42D-E146-4EEA-A928-95A7DC8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6F9-5610-44C4-BBE5-1F4BD0E5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D094-83D6-4505-8CB7-908FF5BC5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1.2 The Way Science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305257"/>
          <p:cNvPicPr/>
          <p:nvPr/>
        </p:nvPicPr>
        <p:blipFill>
          <a:blip r:embed="rId1"/>
          <a:stretch/>
        </p:blipFill>
        <p:spPr>
          <a:xfrm>
            <a:off x="3429000" y="3124080"/>
            <a:ext cx="2181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ything that can change i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ight microscop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uses lenses to magnify very small objects, such as bacteria or details of larger objects, such as the structure of le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elescop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lenses and mirrors to magnify objects that appear small because they are far away such as stars or plan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adio telescop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tect radio signals emitted by distant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ctrophotometers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light into a rainbow like spectru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icle accelerator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ake fragments of atoms move extremely fast, then let them smash into atoms or part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the straight line distance between any two poi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a measure of the quantity of matter in an objec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a measure of space, such as the capacity of contain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the force with which gravity pulls on a quantity of matt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st three examples each of things that are commonly measured by mass, by volume, and by lengt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plain why the scientific method is said to be very similar to critical thinking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scribe a hypothesis and how it is used. Give an example of a hypothesi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why no experiment should be called a fail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 the discussion of scientists’ tools to how science and technology depend on each 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itical thinking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application of logic and reason to observations and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20071210_ScientificMethod"/>
          <p:cNvPicPr/>
          <p:nvPr/>
        </p:nvPicPr>
        <p:blipFill>
          <a:blip r:embed="rId1"/>
          <a:stretch/>
        </p:blipFill>
        <p:spPr>
          <a:xfrm>
            <a:off x="174636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k a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start with: How, What, When, Who, Which, Why, or Whe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be something that you can measure, preferably with a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 background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library and Internet research to help you find the best way to do things and insure that you don't repeat mistakes from the pa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t a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ypothesis is an educated guess about how things work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"If _____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[I do this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_____, then _____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[this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 will happen.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st your hypothesis by doing an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experiment tests whether your hypothesis is true or false. Make sure that you change only one factor at a time while keeping all other conditions the sa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eat several times to conclud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yze your data and draw a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your experiment is complete, you collect your measurements and analyze them to see if your hypothesis is true or fals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e you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scientists publish their final report in a scientific journal or present their results on a poster at a scientific mee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3:00:51Z</dcterms:created>
  <dc:creator>Chelsea</dc:creator>
  <dc:description/>
  <dc:language>en-US</dc:language>
  <cp:lastModifiedBy>geistc</cp:lastModifiedBy>
  <dcterms:modified xsi:type="dcterms:W3CDTF">2013-09-03T16:14:36Z</dcterms:modified>
  <cp:revision>24</cp:revision>
  <dc:subject/>
  <dc:title>The Scientific Method</dc:title>
</cp:coreProperties>
</file>