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E05-97DD-43F0-842A-382ACC95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591-1547-45B5-A2FB-C5711D77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75B-FB19-4CF4-B49F-F864C8D1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8FF-B2FA-4A1C-B439-7F531ABC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842-F5DB-4143-87FA-0FF40771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491-BCA9-4A03-B8BA-D45D29E5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96C-66F2-40AF-909F-E2380700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F6F-48F7-46E4-9DBB-93344BE6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66B-7C31-4189-9E58-1FD9C868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C70-3587-41FC-9B3D-F0D57ECA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9DD-5AF4-43CE-B622-06F19AA0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746-BB3F-48A4-A8F7-87571AA4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DD01-8F84-4A83-B336-87DCC21B8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.2 The Way Scienc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305257"/>
          <p:cNvPicPr/>
          <p:nvPr/>
        </p:nvPicPr>
        <p:blipFill>
          <a:blip r:embed="rId1"/>
          <a:stretch/>
        </p:blipFill>
        <p:spPr>
          <a:xfrm>
            <a:off x="3429000" y="3124080"/>
            <a:ext cx="2181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thing that can change i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ight micro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es lenses to magnify very small objects, such as bacteria or details of larger objects, such as the structure of le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elescop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lenses and mirrors to magnify objects that appear small because they are far away such as stars or plan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adio tele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tect radio signals emitted by distan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trophotometers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light into a rainbow like spectru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icle accelerator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ake fragments of atoms move extremely fast, then let them smash into atoms or part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straight line distance between any two po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the quantity of matter in an obje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space, such as the capacity of contain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force with which gravity pulls on a quantity of mat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st three examples each of things that are commonly measured by mass, by volume, and by lengt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plain why the scientific method is said to be very similar to critical think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ribe a hypothesis and how it is used. Give an example of a hypothesi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why no experiment should be called a fail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 the discussion of scientists’ tools to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itical thinking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application of logic and reason to observations and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0071210_ScientificMethod"/>
          <p:cNvPicPr/>
          <p:nvPr/>
        </p:nvPicPr>
        <p:blipFill>
          <a:blip r:embed="rId1"/>
          <a:stretch/>
        </p:blipFill>
        <p:spPr>
          <a:xfrm>
            <a:off x="174636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k a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start with: How, What, When, Who, Which, Why, or Whe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be something that you can measure, preferably with a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background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library and Internet research to help you find the best way to do things and insure that you don't repeat mistakes from the pa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t a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ypothesis is an educated guess about how things work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If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I do 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, then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 will happen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st your hypothesis by doing an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experiment tests whether your hypothesis is true or false. Make sure that you change only one factor at a time while keeping all other conditions the sa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 several times to conclud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ze your data and draw a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your experiment is complete, you collect your measurements and analyze them to see if your hypothesis is true or fals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e y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scientists publish their final report in a scientific journal or present their results on a poster at a scientific mee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3:00:51Z</dcterms:created>
  <dc:creator>Chelsea</dc:creator>
  <dc:description/>
  <dc:language>en-US</dc:language>
  <cp:lastModifiedBy>geistc</cp:lastModifiedBy>
  <dcterms:modified xsi:type="dcterms:W3CDTF">2013-09-03T16:14:36Z</dcterms:modified>
  <cp:revision>24</cp:revision>
  <dc:subject/>
  <dc:title>The Scientific Method</dc:title>
</cp:coreProperties>
</file>