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9543-B82B-4FBB-B006-9E214043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87A8-B30A-4A32-963D-DD42881C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6723-74D5-49E5-8D58-DA7EA408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F4ED-6F77-46FC-BEAF-DB461BA8D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FF07-F31E-4B3B-B272-95093811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18AD-3E24-4DF0-85BE-05BAFEC8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3E4C-B3F5-43B8-A572-D8875D62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2633-60D1-4DEF-AE21-854CD90E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A1C6-14DD-4C86-8E4D-472360E8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64D5-9C26-429B-B1A4-1CCB379C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6DCE-9259-42E9-8D38-0B1DE813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F64E-EC3F-4CCF-9C72-6F551063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225B-0CA1-4963-9E70-41808A8A99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Scientific Notation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Scientific Notati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cientific notation-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a value written as a simple number multiplied by a power of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- exponent: move decimal L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+ exponent: move decimal R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: 1 x 10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100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: 1 x 10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-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.00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00,0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 x 10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.45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4.56 x 10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11:00:14Z</dcterms:created>
  <dc:creator>geistc</dc:creator>
  <dc:description/>
  <dc:language>en-US</dc:language>
  <cp:lastModifiedBy>geistc</cp:lastModifiedBy>
  <dcterms:modified xsi:type="dcterms:W3CDTF">2013-09-23T18:27:50Z</dcterms:modified>
  <cp:revision>21</cp:revision>
  <dc:subject/>
  <dc:title>Scientific Notation </dc:title>
</cp:coreProperties>
</file>