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C2F-4547-4AFE-8977-310D17F4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E89-473F-433B-8407-3EC34B6F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FDB-8422-482C-B35D-56029985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7FD-6B21-42C1-BCBF-D655212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993-4597-4044-B7F2-DEEEE6A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6DE-683A-4621-BF3C-7B92137E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94E-112F-4452-8F11-3AC681D5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41A-2BB5-408F-A8BF-06468695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270-4A98-4187-B6E4-0C2CF6A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C32-C500-4718-BBA8-E69029B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18D-3F16-426F-8716-6C50864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F27-39E1-4B5C-96C0-485766B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A88A-9755-4376-8380-6CF6C7F8C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cientific Notatio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entific notation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value written as a simple number multiplied by a power of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- exponent: move decimal 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 exponent: move decimal 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10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: 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.0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0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4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.56 x 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1:00:14Z</dcterms:created>
  <dc:creator>geistc</dc:creator>
  <dc:description/>
  <dc:language>en-US</dc:language>
  <cp:lastModifiedBy>geistc</cp:lastModifiedBy>
  <dcterms:modified xsi:type="dcterms:W3CDTF">2013-09-23T18:27:50Z</dcterms:modified>
  <cp:revision>21</cp:revision>
  <dc:subject/>
  <dc:title>Scientific Notation </dc:title>
</cp:coreProperties>
</file>