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EC0-181A-4C6B-987D-49879A6D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26B-E357-4B26-8FFD-51D1AFB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8FD-77C5-409C-984B-A73460C9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4AD-AAA6-4556-A9D7-2F3F764E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8DC-B7C9-40D8-8030-06B9AB1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BA5-2E10-4F9C-9064-EC9819D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509-C929-4F7B-87A2-C5344A6D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AC3-90D9-4A02-9A8D-92B54D77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BD1-073B-4D5F-BECC-004401DF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434-BE69-4C59-9457-A1481F7E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8DC-861B-4B53-994C-7B6F259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9B5-B65C-4C3C-9457-88D69B3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1E2-8C18-4E66-8173-19F0BBF06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cientific Notatio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entific notation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value written as a simple number multiplied by a power of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exponent: move decimal 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 exponent: move decimal 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10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.0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4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.56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00:14Z</dcterms:created>
  <dc:creator>geistc</dc:creator>
  <dc:description/>
  <dc:language>en-US</dc:language>
  <cp:lastModifiedBy>geistc</cp:lastModifiedBy>
  <dcterms:modified xsi:type="dcterms:W3CDTF">2013-09-23T18:27:50Z</dcterms:modified>
  <cp:revision>21</cp:revision>
  <dc:subject/>
  <dc:title>Scientific Notation </dc:title>
</cp:coreProperties>
</file>