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1AC8-6F91-4714-965B-D5DA25E21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02DF-14F7-431E-8778-34C4D7519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D386-5EBD-4044-8C99-6B37123AF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47DE-1205-4F69-9E8F-29314950E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2B92-2E54-468B-9D12-C8E0E01E3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8BC1-0524-4BBB-BE71-CE7D342F1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7618-C483-409F-BBA3-F2E8648B1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3245-9A77-4A45-BFA3-2C2C670A6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3924-3139-4617-8498-255470294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376C-CCC1-4949-95CF-F208AA96D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D7A0-84B5-468C-B154-CB1D562B0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C155-DDAB-4F94-9CF1-31AA141DC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44065-1C6C-4D9B-9D0B-D7568CAD76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Scientific Notation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Calibri"/>
              </a:rPr>
              <a:t>Scientific Notation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cientific notation-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a value written as a simple number multiplied by a power of 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- exponent: move decimal L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+ exponent: move decimal R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X: 1 x 10</a:t>
            </a:r>
            <a:r>
              <a:rPr b="1" lang="en-US" sz="4400" spc="-1" strike="noStrike" baseline="30000">
                <a:solidFill>
                  <a:srgbClr val="000000"/>
                </a:solidFill>
                <a:latin typeface="Calibri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30000">
                <a:solidFill>
                  <a:srgbClr val="000000"/>
                </a:solidFill>
                <a:latin typeface="Calibri"/>
              </a:rPr>
              <a:t>1000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X: 1 x 10</a:t>
            </a:r>
            <a:r>
              <a:rPr b="1" lang="en-US" sz="4400" spc="-1" strike="noStrike" baseline="30000">
                <a:solidFill>
                  <a:srgbClr val="000000"/>
                </a:solidFill>
                <a:latin typeface="Calibri"/>
              </a:rPr>
              <a:t>-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30000">
                <a:solidFill>
                  <a:srgbClr val="000000"/>
                </a:solidFill>
                <a:latin typeface="Calibri"/>
              </a:rPr>
              <a:t>.000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100,00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1 x 10</a:t>
            </a:r>
            <a:r>
              <a:rPr b="1" lang="en-US" sz="4400" spc="-1" strike="noStrike" baseline="30000">
                <a:solidFill>
                  <a:srgbClr val="000000"/>
                </a:solidFill>
                <a:latin typeface="Calibri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.45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4.56 x 10</a:t>
            </a:r>
            <a:r>
              <a:rPr b="1" lang="en-US" sz="4400" spc="-1" strike="noStrike" baseline="30000">
                <a:solidFill>
                  <a:srgbClr val="000000"/>
                </a:solidFill>
                <a:latin typeface="Calibri"/>
              </a:rPr>
              <a:t>-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3T11:00:14Z</dcterms:created>
  <dc:creator>geistc</dc:creator>
  <dc:description/>
  <dc:language>en-US</dc:language>
  <cp:lastModifiedBy>geistc</cp:lastModifiedBy>
  <dcterms:modified xsi:type="dcterms:W3CDTF">2013-09-23T18:27:50Z</dcterms:modified>
  <cp:revision>21</cp:revision>
  <dc:subject/>
  <dc:title>Scientific Notation </dc:title>
</cp:coreProperties>
</file>