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3E1-C567-4F14-8ADE-B750CC63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D13-666E-4965-9AB7-C02F74F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081-7F80-4248-AD98-8397951E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006-4184-47A0-B615-82DDD064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790-D17A-4452-83F1-CE01DEA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F0B-844C-411E-BB28-8B72D0A8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07C-BB60-4066-A7E8-A09FC76F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6A3-3CE1-4E29-ACDA-53A59381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939-65B5-4AD3-9C87-F00B119F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900-5103-4B3C-9DF5-5B1DD3BE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997-ED76-4723-B207-676899C8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8E7-A338-4491-A264-FA742AD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1920-F630-4212-A138-6FAFD3F2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2 The Way Scienc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305257"/>
          <p:cNvPicPr/>
          <p:nvPr/>
        </p:nvPicPr>
        <p:blipFill>
          <a:blip r:embed="rId1"/>
          <a:stretch/>
        </p:blipFill>
        <p:spPr>
          <a:xfrm>
            <a:off x="3429000" y="3124080"/>
            <a:ext cx="218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can change i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ght micro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s lenses to magnify very small objects, such as bacteria or details of larger objects, such as the structure of le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lesc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lenses and mirrors to magnify objects that appear small because they are far away such as stars or plan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adio tele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tect radio signals emitted by distan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trophotometers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light into a rainbow like spectru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icle accelerator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ke fragments of atoms move extremely fast, then let them smash into atoms or part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straight line distance between any two po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the quantity of matter in an obj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space, such as the capacity of contai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force with which gravity pulls on a quantity of ma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st three examples each of things that are commonly measured by mass, by volume, and by lengt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plain why the scientific method is said to be very similar to critical think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ribe a hypothesis and how it is used. Give an example of a hypothesi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no experiment should be called a fail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 the discussion of scientists’ tools to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al thinking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application of logic and reason to observations and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71210_ScientificMethod"/>
          <p:cNvPicPr/>
          <p:nvPr/>
        </p:nvPicPr>
        <p:blipFill>
          <a:blip r:embed="rId1"/>
          <a:stretch/>
        </p:blipFill>
        <p:spPr>
          <a:xfrm>
            <a:off x="174636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start with: How, What, When, Who, Which, Why, or W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be something that you can measure, preferably with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background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library and Internet research to help you find the best way to do things and insure that you don't repeat mistakes from the pa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t a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ypothesis is an educated guess about how things 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If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I do 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, then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 will happen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your hypothesis by doing a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experiment tests whether your hypothesis is true or false. Make sure that you change only one factor at a time while keeping all other conditions the s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 several times to conclud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ze your data and draw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your experiment is complete, you collect your measurements and analyze them to see if your hypothesis is true or fals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e 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scientists publish their final report in a scientific journal or present their results on a poster at a scientific mee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3:00:51Z</dcterms:created>
  <dc:creator>Chelsea</dc:creator>
  <dc:description/>
  <dc:language>en-US</dc:language>
  <cp:lastModifiedBy>geistc</cp:lastModifiedBy>
  <dcterms:modified xsi:type="dcterms:W3CDTF">2013-09-03T16:14:36Z</dcterms:modified>
  <cp:revision>24</cp:revision>
  <dc:subject/>
  <dc:title>The Scientific Method</dc:title>
</cp:coreProperties>
</file>