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580-AD7D-4F90-9E24-65F4AEB9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879-E52F-4336-A30D-075EE11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6EA-2917-44BE-AF0E-A13420DE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C82-3C48-4D1B-AA57-6EC199F8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9F7-8387-4AD3-AD42-4F594F72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C08-A553-45D2-A452-2BA61CE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943-2315-4751-A28D-942C96C9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F16-E221-4EA0-B5F6-396607A5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1E3-DAB0-49D1-AA46-02EF434A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81E-E588-4AE9-8F23-11C5174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AC4-2309-4CFC-A138-7802633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1AB-2248-4D50-A3A9-F782DDC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C9F-B419-41F5-90E9-5C8C357E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2 The Way Scienc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05257"/>
          <p:cNvPicPr/>
          <p:nvPr/>
        </p:nvPicPr>
        <p:blipFill>
          <a:blip r:embed="rId1"/>
          <a:stretch/>
        </p:blipFill>
        <p:spPr>
          <a:xfrm>
            <a:off x="3429000" y="3124080"/>
            <a:ext cx="218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can change i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ght micro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s lenses to magnify very small objects, such as bacteria or details of larger objects, such as the structure of le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lesc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lenses and mirrors to magnify objects that appear small because they are far away such as stars or plan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adio tele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tect radio signals emitted by distan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trophotometers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light into a rainbow like spectru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icle accelerator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ke fragments of atoms move extremely fast, then let them smash into atoms or part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straight line distance between any two po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the quantity of matter in an obj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space, such as the capacity of contai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force with which gravity pulls on a quantity of ma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st three examples each of things that are commonly measured by mass, by volume, and by lengt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plain why the scientific method is said to be very similar to critical think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ribe a hypothesis and how it is used. Give an example of a hypothesi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no experiment should be called a fail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the discussion of scientists’ tools to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al thinking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application of logic and reason to observation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1210_ScientificMethod"/>
          <p:cNvPicPr/>
          <p:nvPr/>
        </p:nvPicPr>
        <p:blipFill>
          <a:blip r:embed="rId1"/>
          <a:stretch/>
        </p:blipFill>
        <p:spPr>
          <a:xfrm>
            <a:off x="174636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start with: How, What, When, Who, Which, Why, or W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be something that you can measure, preferably with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backgroun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library and Internet research to help you find the best way to do things and insure that you don't repeat mistakes from the pa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t a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ypothesis is an educated guess about how things 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If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I do 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, then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 will happen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your hypothesis by doing a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experiment tests whether your hypothesis is true or false. Make sure that you change only one factor at a time while keeping all other conditions the s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 several times to conclud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ze your data and draw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your experiment is complete, you collect your measurements and analyze them to see if your hypothesis is true or fals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e 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scientists publish their final report in a scientific journal or present their results on a poster at a scientific mee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3:00:51Z</dcterms:created>
  <dc:creator>Chelsea</dc:creator>
  <dc:description/>
  <dc:language>en-US</dc:language>
  <cp:lastModifiedBy>geistc</cp:lastModifiedBy>
  <dcterms:modified xsi:type="dcterms:W3CDTF">2013-09-03T16:14:36Z</dcterms:modified>
  <cp:revision>24</cp:revision>
  <dc:subject/>
  <dc:title>The Scientific Method</dc:title>
</cp:coreProperties>
</file>