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624-F149-4F64-817B-9DD8BFEB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472-4526-42A1-9E3E-687103D6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679-12F6-45F9-956A-DA658306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387-16F2-4063-A5E3-A5298BA3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379-1E8A-4505-8116-EAA97350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579-C1E3-412A-9729-AC09DF5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A75-4A51-40BA-B0EF-F9848C74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5F8-2B6B-401C-9657-AF89E95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26C-6B7E-49B3-B609-C588C318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376-42F0-4BD4-AA49-C8116B1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DFC-CD8A-464B-801F-AA10FAE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CE9-2B85-4A17-B90D-14CA7D2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74F-9FFB-461A-B0CB-89CAC465C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&amp;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am characteristics &amp; 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rainage patter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buta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feeder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dritic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a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tangular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llis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sh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rainage basin, region drained by a stream, lake, or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rounded b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 ridge between two streams along which precipitation runs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4 watersheds; 5 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at Lakes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hi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squehanna/Chesapeak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omac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war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io River Basin- our water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’s second largest water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,000 sq mi of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s drinking water for 13 million people &amp; 3.5 million PA 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dwaters in Pittsburgh- Ohio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atershed activity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ends &amp; flows into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minar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straight paths that are parallel to the stream’s channel or bed- little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bulent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tiny circular paths as it flows downstream- mixing cons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istance water flows during some period of time and determines whether its flow will be laminar or turbu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d m/sec or ft/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diment loa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spended or bed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clay and silt- susp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sand, gravel, pebbles, &amp; boulders- bed load- bottom of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 deposit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llect on the edges of the stream or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s of sedi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found inside of a river 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12:03Z</dcterms:created>
  <dc:creator>Chelsea</dc:creator>
  <dc:description/>
  <dc:language>en-US</dc:language>
  <cp:lastModifiedBy>Chelsea</cp:lastModifiedBy>
  <dcterms:modified xsi:type="dcterms:W3CDTF">2009-02-08T23:05:25Z</dcterms:modified>
  <cp:revision>4</cp:revision>
  <dc:subject/>
  <dc:title>Chapter 1</dc:title>
</cp:coreProperties>
</file>