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537-C83F-41B9-BF0E-307AB071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BC8-E3E2-4ACE-BF56-2DEE8D11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E7C-F6E5-44A0-A5C1-93ACF0E4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AEF-66E1-4037-AD2E-C32FBC4A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242-22F2-41D2-BEB1-AE9C688A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D97-B972-4437-8934-31E0D9D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557-2C40-4839-8A19-5EC27AA4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241-2CCB-4BC0-8AD0-1B8CE67A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A52-5BEA-4904-9A0E-F655B39B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621-507E-4339-8801-8A1CB7F3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DF0-676A-43B3-9811-D400BC9A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145-F0F4-4A3E-B5A5-7699FF7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E0E3-96D4-49B2-BE88-06B5134C5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&amp;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eam characteristics &amp; 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rainage patter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ibutar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feeder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ndritic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dial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tangular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llis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sh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rainage basin, region drained by a stream, lake, or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rounded b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 ridge between two streams along which precipitation runs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4 watersheds; 5 maj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eat Lakes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hi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squehanna/Chesapeak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omac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laware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 Watershe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io River Basin- our watersh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’s second largest water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,000 sq mi of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s drinking water for 13 million people &amp; 3.5 million PA 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dwaters in Pittsburgh- Ohio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atershed activity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be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u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ream or river ends &amp; flows into another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minar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straight paths that are parallel to the stream’s channel or bed- little mi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rbulent flo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ter moves in tiny circular paths as it flows downstream- mixing const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distance water flows during some period of time and determines whether its flow will be laminar or turbu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d m/sec or ft/s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diment load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spended or bed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clay and silt- susp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s- sand, gravel, pebbles, &amp; boulders- bed load- bottom of cha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eam characteris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ver deposit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llect on the edges of the stream or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s of sedi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found inside of a river b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2:12:03Z</dcterms:created>
  <dc:creator>Chelsea</dc:creator>
  <dc:description/>
  <dc:language>en-US</dc:language>
  <cp:lastModifiedBy>Chelsea</cp:lastModifiedBy>
  <dcterms:modified xsi:type="dcterms:W3CDTF">2009-02-08T23:05:25Z</dcterms:modified>
  <cp:revision>4</cp:revision>
  <dc:subject/>
  <dc:title>Chapter 1</dc:title>
</cp:coreProperties>
</file>