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E23-76F5-4BD5-A436-AC8B3A2E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DD4-50FC-479F-A7D1-ECF1A4D2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333-4DE3-43DB-B363-09D4CC41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DF9-A864-4AFF-8F35-6B90B078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668-70AF-4250-9969-75EEF409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0C0-9CE5-434A-8DFC-47AA9CED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5D4-6495-45DF-853F-2B4FC68B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5E9-8032-470C-A982-CA5BAD11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D79-CB2A-4F3A-BD56-6FA79F2E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60A-AB92-45B0-A554-1E5FFBC7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95C-5417-4A0D-9F0C-D96173E7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325-9A31-418B-8EC0-1E399EBA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341D-4CD8-4875-B8C6-D5EA73A47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1 &amp; 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eam characteristics &amp; watersh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rainage patter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ibutar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feeder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ndritic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dial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tangular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ellis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atershe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sh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drainage basin, region drained by a stream, lake, or another body of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rounded b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vid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y ridge between two streams along which precipitation runs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A Watershe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4 watersheds; 5 maj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eat Lakes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hio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squehanna/Chesapeake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omac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laware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A Watershe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hio River Basin- our watersh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’s second largest waters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,000 sq mi of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es drinking water for 13 million people &amp; 3.5 million PA 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dwaters in Pittsburgh- Ohio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3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Watershed activity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eam or river be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u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eam or river ends &amp; flows into another body of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minar flow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ater moves in straight paths that are parallel to the stream’s channel or bed- little mi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urbulent flow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ater moves in tiny circular paths as it flows downstream- mixing consta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distance water flows during some period of time and determines whether its flow will be laminar or turbul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d m/sec or ft/s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diment load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uspended or bed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iments- clay and silt- suspen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iments- sand, gravel, pebbles, &amp; boulders- bed load- bottom of cha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ver deposit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llect on the edges of the stream or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rs of sedim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found inside of a river b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22:12:03Z</dcterms:created>
  <dc:creator>Chelsea</dc:creator>
  <dc:description/>
  <dc:language>en-US</dc:language>
  <cp:lastModifiedBy>Chelsea</cp:lastModifiedBy>
  <dcterms:modified xsi:type="dcterms:W3CDTF">2009-02-08T23:05:25Z</dcterms:modified>
  <cp:revision>4</cp:revision>
  <dc:subject/>
  <dc:title>Chapter 1</dc:title>
</cp:coreProperties>
</file>