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F2B-E479-4749-9308-DFF3A1C6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E0D-B87F-477C-B984-622A1B3D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08C-8811-4118-9F22-BCBA1FEF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B2F-6FAE-43AE-90F7-79601238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1FE-359A-48BD-88FC-0620B880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A0D-996B-420F-B756-CC55EB7A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16F-493B-400E-99EA-6AD4CC5E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ECE-BFAC-4BB1-9E56-09CD4A9F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BF2-443A-446E-BC99-126E3089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21F-9417-44A7-937A-ACA98C90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457-76EB-41DB-8C68-6DF26F9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D95-EB54-4EFE-9BCC-4F3E6CA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6820-5435-4992-A587-2204272ED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 &amp;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eam characteristics &amp; 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rainage patter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butar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feeder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dritic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dial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tangular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llis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sh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rainage basin, region drained by a stream, lake, or another body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rounded b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vid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 ridge between two streams along which precipitation runs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 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4 watersheds; 5 maj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at Lakes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hi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squehanna/Chesapeake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omac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aware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 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hio River Basin- our watersh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’s second largest water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,000 sq mi of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s drinking water for 13 million people &amp; 3.5 million PA 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dwaters in Pittsburgh- Ohio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Watershed activity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eam or river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u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eam or river ends &amp; flows into another body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minar flo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ter moves in straight paths that are parallel to the stream’s channel or bed- little mi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urbulent flo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ter moves in tiny circular paths as it flows downstream- mixing const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istance water flows during some period of time and determines whether its flow will be laminar or turbul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d m/sec or ft/s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diment load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uspended or bed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s- clay and silt- suspen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s- sand, gravel, pebbles, &amp; boulders- bed load- bottom of cha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ver deposit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llect on the edges of the stream or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rs of sedim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found inside of a river b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2:12:03Z</dcterms:created>
  <dc:creator>Chelsea</dc:creator>
  <dc:description/>
  <dc:language>en-US</dc:language>
  <cp:lastModifiedBy>Chelsea</cp:lastModifiedBy>
  <dcterms:modified xsi:type="dcterms:W3CDTF">2009-02-08T23:05:25Z</dcterms:modified>
  <cp:revision>4</cp:revision>
  <dc:subject/>
  <dc:title>Chapter 1</dc:title>
</cp:coreProperties>
</file>