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035-4AC7-4974-835D-3B0403A8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107-D1AA-4BEB-A50E-EE696B81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4DC-D4DC-4441-B7C8-F7D8328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0D0-75C9-4188-AC2B-B8B7F836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287-4AA2-4427-9FF2-D2DCBE56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792-E57F-4195-844D-37662C32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DF6-1690-4E24-A640-B9590CF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208-7686-4739-BF7A-5F4DA41E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A51-D866-4217-890E-76E1F85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1CF-4874-441C-9502-8EEA120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FEA-42F4-4CBA-A704-62D4528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FC4-30C2-4E8B-A276-27A2D57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5990-8DC0-4767-B9EC-4AB859CB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ergy Flow in Ec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ach time an organism eats another organism, an energy transfer occu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Trophic leve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chai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- sequence in which energy is transferred from one organism to the next as each organism eats another organis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638680" y="1143000"/>
            <a:ext cx="2389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ood Web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Food web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shows many feeding relationships that are possible in an ecosystem (multiple food chain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ophic leve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ne of the steps in a food chain or food pyramid; examples include producers and primary, secondary, and tertiary consu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 energy is available to organisms at higher trophic levels because when energy is transferred, some energy is lost as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or Ecological 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rophic Leve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s form the base of the energy pyramid, and therefore contain the most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yramid becomes smaller toward the top, where less energy i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rgy loss affects the number of organisms at each level and limits the number of trophic levels in an eco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herbivore, carnivore, omnivore, and decompos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Explai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cellular respiratio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scribe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food chains, food webs, and trophic leve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hotosynthes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process by which plants, algae, and some bacteria use sunlight, carbon dioxide, and water to produce carbohydrates and 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roducers to Consum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ecause plants make their own food, they are called </a:t>
            </a:r>
            <a:r>
              <a:rPr b="0" i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- organism that can make organic molecules from inorganic molecul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ducers are also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autotroph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, or self-feed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sumers get their energy indirectly by eating producers or other consum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xception to the Ru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eep-ocean communities of worms, clams, crabs, mussels, and barnacles, exist in total darkness on the ocean floor, where photosynthesis cannot occur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producers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in this environment are bacteria that use hydrogen sulfide present in the water to make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What eats what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are classified by what they e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ypes of Consumer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Herb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ar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Omnivo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Decompos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rganisms gain energy from food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process of breaking down food to yield energy is called 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Cellular respiration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ocess by which cells produce energy from carbohydrates; atmospheric oxygen combines with glucose to form water and carbon dioxi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urning the Fue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uring cellular respiration, cells absorb oxygen and use it to release energy from foo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ells use glucose (sugar) and oxygen to produce carbon dioxide, water,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4120"/>
            <a:ext cx="914400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9:30:33Z</dcterms:created>
  <dc:creator>Chelsea</dc:creator>
  <dc:description/>
  <dc:language>en-US</dc:language>
  <cp:lastModifiedBy>geistc</cp:lastModifiedBy>
  <dcterms:modified xsi:type="dcterms:W3CDTF">2012-11-09T15:50:58Z</dcterms:modified>
  <cp:revision>7</cp:revision>
  <dc:subject/>
  <dc:title>Chapter 5</dc:title>
</cp:coreProperties>
</file>