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0B80-3DCF-412D-97D2-173C623E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90E2-8A35-4979-AF4C-4C3199C3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8C0B-F2DE-42CE-9D67-C1B0E8373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18D6-4FE7-4462-BE45-AA81F7F0D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52B7-1BF4-431C-968F-876E290B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AFBF-E794-447A-8D1D-A35464CB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D6FE-328D-4323-AC38-F5D4B5CB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849E-1010-4172-AFFE-9E83D0F9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B0FE-6D84-4A75-B5B7-080F604F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845C-4D38-4201-B7C8-DEB847AA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53C9-3331-413C-9677-D064CEED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4ECD-7AFC-47F3-BEE9-EE90599A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CC06-F6A7-4C5C-8B9E-394557E98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ergy Flow in Ec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nergy Transfe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Each time an organism eats another organism, an energy transfer occur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Food chai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Food web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Trophic level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Food Chai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4876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Food chain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- sequence in which energy is transferred from one organism to the next as each organism eats another organism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5638680" y="1143000"/>
            <a:ext cx="2389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Food Web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2520" y="14479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Food web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- shows many feeding relationships that are possible in an ecosystem (multiple food chains)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0" y="1371600"/>
            <a:ext cx="4952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Trophic Level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rophic leve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one of the steps in a food chain or food pyramid; examples include producers and primary, secondary, and tertiary consum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 energy is available to organisms at higher trophic levels because when energy is transferred, some energy is lost as h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ergy or Ecological pyram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Trophic Level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ers form the base of the energy pyramid, and therefore contain the most ener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yramid becomes smaller toward the top, where less energy is avail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ergy loss affects the number of organisms at each level and limits the number of trophic levels in an eco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Define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herbivore, carnivore, omnivore, and decomposer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Explain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cellular respiration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Describe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food chains, food webs, and trophic levels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Define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herbivore, carnivore, omnivore, and decomposer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Explain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cellular respiration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Describe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food chains, food webs, and trophic levels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fe Depends on 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hotosynthes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process by which plants, algae, and some bacteria use sunlight, carbon dioxide, and water to produce carbohydrates and oxy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0" y="4581360"/>
            <a:ext cx="914400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Producers to Consumer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Because plants make their own food, they are called </a:t>
            </a:r>
            <a:r>
              <a:rPr b="0" i="1" lang="en-US" sz="3700" spc="-1" strike="noStrike">
                <a:solidFill>
                  <a:srgbClr val="ff0000"/>
                </a:solidFill>
                <a:latin typeface="Arial"/>
              </a:rPr>
              <a:t>producer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Producer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- organism that can make organic molecules from inorganic molecule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Producers are also called </a:t>
            </a: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autotrophs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, or self-feeder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onsumers get their energy indirectly by eating producers or other consumer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xception to the Rul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Deep-ocean communities of worms, clams, crabs, mussels, and barnacles, exist in total darkness on the ocean floor, where photosynthesis cannot occur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producers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in this environment are bacteria that use hydrogen sulfide present in the water to make food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What eats what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Organisms are classified by what they e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ypes of Consumers: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Herbivore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Carnivore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Omnivore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Decomposer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838080" y="0"/>
            <a:ext cx="7543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Burning the Fue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Organisms gain energy from food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e process of breaking down food to yield energy is called </a:t>
            </a: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cellular respiration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Cellular respiration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process by which cells produce energy from carbohydrates; atmospheric oxygen combines with glucose to form water and carbon dioxide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Burning the Fue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During cellular respiration, cells absorb oxygen and use it to release energy from food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ells use glucose (sugar) and oxygen to produce carbon dioxide, water, and energy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5334120"/>
            <a:ext cx="914400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3T19:30:33Z</dcterms:created>
  <dc:creator>Chelsea</dc:creator>
  <dc:description/>
  <dc:language>en-US</dc:language>
  <cp:lastModifiedBy>geistc</cp:lastModifiedBy>
  <dcterms:modified xsi:type="dcterms:W3CDTF">2012-11-09T15:50:58Z</dcterms:modified>
  <cp:revision>7</cp:revision>
  <dc:subject/>
  <dc:title>Chapter 5</dc:title>
</cp:coreProperties>
</file>