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8DE-EEFF-41C2-9867-192A388C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9A7-9A62-44A9-877D-19B1337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F81-0EEC-4FD0-ABC3-0FE06A9A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437-1C38-41D8-9C98-6A31D831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7FE-A45B-425B-84E6-AD6141B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461-D197-458A-8924-F69D085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466-AD5F-417A-82B6-999A075F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6D0-14F2-47DE-AC26-723FE50C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75A-50A1-4FE9-B6DD-E9BB673A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24A-F67E-425F-98DD-601AA1C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01D-EC47-4C23-A78F-3A43900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BA8-A35E-4823-9AEB-ED87182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CC3-BD30-48EA-9134-781E4B29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time an organism eats another organism, an energy transfer occu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Trophic leve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- sequence in which energy is transferred from one organism to the next as each organism eats another organis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238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e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shows many feeding relationships that are possible in an ecosystem (multiple food chain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ophic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ne of the steps in a food chain or food pyramid; examples include producers and primary, secondary, and tertiary 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 energy is available to organisms at higher trophic levels because when energy is transferred, some energy is los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or Ecological 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s form the base of the energy pyramid, and therefore contain the most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yramid becomes smaller toward the top, where less energy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loss affects the number of organisms at each level and limits the number of trophic levels in an eco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rocess by which plants, algae, and some bacteria use sunlight, carbon dioxide, and water to produce carbohydrates an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roducers to Consu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ecause plants make their own food, they are called </a:t>
            </a:r>
            <a:r>
              <a:rPr b="0" i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organism that can make organic molecules from inorganic molecul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ducers are also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, or self-feed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umers get their energy indirectly by eating producers or other consum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ception to the Ru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ep-ocean communities of worms, clams, crabs, mussels, and barnacles, exist in total darkness on the ocean floor, where photosynthesis cannot occu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in this environment are bacteria that use hydrogen sulfide present in the water to make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hat eats what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are classified by what they e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ypes of Consumer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Herb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ar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Om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compos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gain energy from food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process of breaking down food to yield energy is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cess by which cells produce energy from carbohydrates; atmospheric oxygen combines with glucose to form water and carbon diox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uring cellular respiration, cells absorb oxygen and use it to release energy from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ells use glucose (sugar) and oxygen to produce carbon dioxide, water,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412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0:33Z</dcterms:created>
  <dc:creator>Chelsea</dc:creator>
  <dc:description/>
  <dc:language>en-US</dc:language>
  <cp:lastModifiedBy>geistc</cp:lastModifiedBy>
  <dcterms:modified xsi:type="dcterms:W3CDTF">2012-11-09T15:50:58Z</dcterms:modified>
  <cp:revision>7</cp:revision>
  <dc:subject/>
  <dc:title>Chapter 5</dc:title>
</cp:coreProperties>
</file>