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047-0149-4060-996F-2BE9062C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4FB-386A-47F2-B5FE-3660FE24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59B-7861-41E5-9831-34900024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957-4248-4EA8-9128-9F8E6A7C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9CC-011A-43CC-841B-E79927BA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1122-B41E-47D0-8A12-61283B81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200-737F-463E-8FF9-AC45F9DA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DC8-30B1-4D81-946F-5D067141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B2A-65A3-46D9-8D50-28CE1D22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F1F-DE6F-4886-8EE0-F3E90927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912D-BD41-47E6-8196-B4FE0090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FA0-6B94-447D-B060-370A20D4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080D-7DA8-44D9-9D0C-CDBDB8EDE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ergy Flow in Ec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 Transf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Each time an organism eats another organism, an energy transfer occu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Food chai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Food web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Trophic level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Food Chai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Food chain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- sequence in which energy is transferred from one organism to the next as each organism eats another organis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638680" y="1143000"/>
            <a:ext cx="2389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Food Web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25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Food web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- shows many feeding relationships that are possible in an ecosystem (multiple food chains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0" y="1371600"/>
            <a:ext cx="4952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rophic Leve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rophic leve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one of the steps in a food chain or food pyramid; examples include producers and primary, secondary, and tertiary consu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 energy is available to organisms at higher trophic levels because when energy is transferred, some energy is lost as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rgy or Ecological pyram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rophic Leve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ers form the base of the energy pyramid, and therefore contain the most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yramid becomes smaller toward the top, where less energy is avail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rgy loss affects the number of organisms at each level and limits the number of trophic levels in an eco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Define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herbivore, carnivore, omnivore, and decomposer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cellular respiratio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food chains, food webs, and trophic level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Define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herbivore, carnivore, omnivore, and decomposer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cellular respiratio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food chains, food webs, and trophic level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fe Depends on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hotosynthes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process by which plants, algae, and some bacteria use sunlight, carbon dioxide, and water to produce carbohydrates and oxy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4581360"/>
            <a:ext cx="914400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roducers to Consumer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ecause plants make their own food, they are called </a:t>
            </a:r>
            <a:r>
              <a:rPr b="0" i="1" lang="en-US" sz="3700" spc="-1" strike="noStrike">
                <a:solidFill>
                  <a:srgbClr val="ff0000"/>
                </a:solidFill>
                <a:latin typeface="Arial"/>
              </a:rPr>
              <a:t>produce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Producer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- organism that can make organic molecules from inorganic molecul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Producers are also called </a:t>
            </a: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autotrophs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, or self-feede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nsumers get their energy indirectly by eating producers or other consume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xception to the Ru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eep-ocean communities of worms, clams, crabs, mussels, and barnacles, exist in total darkness on the ocean floor, where photosynthesis cannot occu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producers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in this environment are bacteria that use hydrogen sulfide present in the water to make foo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What eats what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rganisms are classified by what they e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ypes of Consumers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Herbivor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Carnivor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Omnivor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Decompose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83808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urning the Fu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rganisms gain energy from food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e process of breaking down food to yield energy is called </a:t>
            </a: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cellular respira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Cellular respiration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process by which cells produce energy from carbohydrates; atmospheric oxygen combines with glucose to form water and carbon dioxid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urning the Fu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uring cellular respiration, cells absorb oxygen and use it to release energy from foo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ells use glucose (sugar) and oxygen to produce carbon dioxide, water, and energ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5334120"/>
            <a:ext cx="91440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9:30:33Z</dcterms:created>
  <dc:creator>Chelsea</dc:creator>
  <dc:description/>
  <dc:language>en-US</dc:language>
  <cp:lastModifiedBy>geistc</cp:lastModifiedBy>
  <dcterms:modified xsi:type="dcterms:W3CDTF">2012-11-09T15:50:58Z</dcterms:modified>
  <cp:revision>7</cp:revision>
  <dc:subject/>
  <dc:title>Chapter 5</dc:title>
</cp:coreProperties>
</file>