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4889-F6B7-4A48-8CFB-5AC224C5C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5122-B388-4341-8380-11D5CBA6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7DC4-3F7D-4172-AF2A-C9C368478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7089-A50E-4964-8FDE-67E825FC7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EDE9-4286-4D35-90FF-46B39A5B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352C-35D5-423D-93DD-529E8AD4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E1FB-AECF-4C83-A4FE-51945528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ADA3-8FD4-4598-8574-69EA9381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B6EC-B999-4F82-B399-28E9C96D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AD05-F0C9-49EF-B3CA-37CE67EE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FD27-171C-4D53-BB7B-540E0C8E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299F-8A75-43A8-A8BD-12954BA1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0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BDF9-E4B7-4996-8755-E761CE762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3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ies of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Noble ga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ble gas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unreactive gaseous elements located in Group 18 of the 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emiconductor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 93-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 3-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 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 1, 3, 4, 5, an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ch member is unique, but they all share similar characteristic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How are elements classified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ls or nonmeta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tal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elements that are good conductors of heat and 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nmetal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elements that are usually poor conductors of heat and electric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One other typ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miconductor or metalloid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elements that are intermediate conductors of heat and electric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Very reactive elem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kali metals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highly reactive metallic elements located in Group 1 of the 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g. 8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ompounds in natu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kaline-earth metal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reactive metallic elements located in Group 2 of the 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g 8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Gol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nsition metal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metallic elements located in Groups 3-12 of the 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Nonmeta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pt for hydrogen, nonmetals are found on the right side of the 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. 3-25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lorine is a halogen that protects you from harmful bacteria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aloge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highly reactive elements located in group 17 of the 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19:18:50Z</dcterms:created>
  <dc:creator>barnesc</dc:creator>
  <dc:description/>
  <dc:language>en-US</dc:language>
  <cp:lastModifiedBy>geistc</cp:lastModifiedBy>
  <dcterms:modified xsi:type="dcterms:W3CDTF">2009-11-18T13:14:50Z</dcterms:modified>
  <cp:revision>5</cp:revision>
  <dc:subject/>
  <dc:title>Chapter 3</dc:title>
</cp:coreProperties>
</file>