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3BF-33E0-4BC4-AE89-B72BA943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BE2-4933-4D24-B273-D105B265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3BC-796E-47E8-B9CB-CF8B6450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EA9-8301-420D-AE25-88FC74E2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E5F-B2E1-4D5B-A137-C9ECBC3A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B96-6761-4764-8960-C5B480C9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84C-BCFB-4324-B97E-4D65D61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3A0-9496-4EC0-B96F-5B6EBD1C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ED7-5B1D-4AEA-81E1-52446CE8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9E1-2A39-4363-8402-7F6E710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102-BBED-4FFF-B5A3-952F0B3B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FBB-3583-41D1-BD38-5AD171E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0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12BF-969B-4C70-B2D7-4D684DFD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ies of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ble ga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unreactive gaseous elements located in Group 18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emiconductor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3-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 3-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1, 3, 4, 5, and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member is unique, but they all share similar characteristic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w are elements classifi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s or nonmet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good conductors of heat and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met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elements that are usually poor conductors of heat and electr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e other 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conductor or metalloi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elements that are intermediate conductors of heat and electri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ery reactive e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 metal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highly reactive metallic elements located in Group 1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. 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mpounds in na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aline-earth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reactive metallic elements located in Group 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ition metal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metallic elements located in Groups 3-12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onmet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 for hydrogen, nonmetals are found on the right side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. 3-2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lorine is a halogen that protects you from harmful bacteria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lo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highly reactive elements located in group 17 of the 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9:18:50Z</dcterms:created>
  <dc:creator>barnesc</dc:creator>
  <dc:description/>
  <dc:language>en-US</dc:language>
  <cp:lastModifiedBy>geistc</cp:lastModifiedBy>
  <dcterms:modified xsi:type="dcterms:W3CDTF">2009-11-18T13:14:50Z</dcterms:modified>
  <cp:revision>5</cp:revision>
  <dc:subject/>
  <dc:title>Chapter 3</dc:title>
</cp:coreProperties>
</file>