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CE03-D415-4309-A658-2CCE52127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CFD5-BCCB-47E1-B9AB-C2EE2CF2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6DA3-3851-4BB6-868E-3BBBEE575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ED94-3B5C-4FCB-B864-39473095B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BF93-7C52-4660-A033-14A8C262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F6E2-18C7-4B0E-B472-A0990E36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6769-1297-4707-9055-E8A84676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0990-1176-4CA9-A0DC-8B8E7CDF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9F8E-AB28-4E82-A5CD-CE0520F1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7F0E-D477-4FEB-8A81-A865CC2B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E867-DAB2-40C4-BC5C-1E0AE630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2A8B-1686-4518-B098-EAA73EE9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0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000E-9E99-4A28-AEC4-7CE115E2D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3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ies of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Noble ga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ble gas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unreactive gaseous elements located in Group 18 of the 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emiconductor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 93-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 3-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 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 1, 3, 4, 5, an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ch member is unique, but they all share similar characteristic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How are elements classified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ls or nonmeta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ta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elements that are good conductors of heat and 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nmeta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elements that are usually poor conductors of heat and electri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ne other typ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miconductor or metalloid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elements that are intermediate conductors of heat and electric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Very reactive elem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kali metals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highly reactive metallic elements located in Group 1 of the 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g. 8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ompounds in natu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kaline-earth metal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reactive metallic elements located in Group 2 of the 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g 8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nsition metal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metallic elements located in Groups 3-12 of the 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Nonmeta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pt for hydrogen, nonmetals are found on the right side of the 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. 3-25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lorine is a halogen that protects you from harmful bacteria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aloge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highly reactive elements located in group 17 of the 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19:18:50Z</dcterms:created>
  <dc:creator>barnesc</dc:creator>
  <dc:description/>
  <dc:language>en-US</dc:language>
  <cp:lastModifiedBy>geistc</cp:lastModifiedBy>
  <dcterms:modified xsi:type="dcterms:W3CDTF">2009-11-18T13:14:50Z</dcterms:modified>
  <cp:revision>5</cp:revision>
  <dc:subject/>
  <dc:title>Chapter 3</dc:title>
</cp:coreProperties>
</file>