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6054-DA6A-49A5-93AF-8CE466AF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EA8-EB2D-4563-8B4F-D66E3B18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96D-3661-4EDF-B76A-1C5BCB32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A2F-4B21-4C56-ACAF-39FA6F28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EAD-D6A8-4A66-9133-9A5D7EA4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57F-0572-40E1-BB12-FCDA19A9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644-4DEF-45D2-9D0A-2A1F93CB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571-9D89-41F8-A4B6-5B07E952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01E-2346-4DF8-BED7-00B17B78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07D-BC32-43EF-9129-23CA011A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A60-813C-480F-91EA-596D63AC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71A-6B76-4029-A281-1D1A3C4C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3636-D8E1-4AAB-A1A0-E6E592183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 of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ble ga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unreactive gaseous elements located in Group 18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emiconductor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93-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 3-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1, 3, 4, 5, an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ch member is unique, but they all share similar characteristic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ow are elements classified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 or nonmet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elements that are good conductors of heat and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met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elements that are usually poor conductors of heat and electr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e other ty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miconductor or metalloid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elements that are intermediate conductors of heat and electr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ery reactive el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kali metal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highly reactive metallic elements located in Group 1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. 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mpounds in na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kaline-earth metal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reactive metallic elements located in Group 2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 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ition metal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metallic elements located in Groups 3-12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onmet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 for hydrogen, nonmetals are found on the right side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. 3-2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lorine is a halogen that protects you from harmful bacteria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lo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highly reactive elements located in group 17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9:18:50Z</dcterms:created>
  <dc:creator>barnesc</dc:creator>
  <dc:description/>
  <dc:language>en-US</dc:language>
  <cp:lastModifiedBy>geistc</cp:lastModifiedBy>
  <dcterms:modified xsi:type="dcterms:W3CDTF">2009-11-18T13:14:50Z</dcterms:modified>
  <cp:revision>5</cp:revision>
  <dc:subject/>
  <dc:title>Chapter 3</dc:title>
</cp:coreProperties>
</file>