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845-35FD-41D0-BCAE-6ADCCCB3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62F-5727-4EAC-8452-0A390A4D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12A-6E55-41F1-A860-14B673BB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179-3AAB-4649-907A-D29277E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DC2-E19D-4830-A68F-5E7E109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044-B288-4D57-8F78-191A36A2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4D7-541F-4A3F-9EE1-99FB5047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B13-A058-4553-8897-B03159E2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AAC-62DB-44D7-9366-5E12F3E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4BC-B13F-4273-84DD-802570A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EAB-1690-43F8-A137-8228B21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3D7-1C47-4F4C-9ECF-65964D21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8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59E-0747-4B59-AE7E-1AA5C71FF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uided Tour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ss of an at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mass unit (amu)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quantity equal to one-twelfth of the mass of a carbon-12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erage atomic mas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eighted average of the masses of all naturally occurring isotope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you can determine the number of neutrons an atom has from an atom’s mass number and its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lements represented by the following symbo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, Br, Na, Mg, He, Fe, Cu, S, and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why the elements in the periodic table are arranged in order of increasing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go to a store, how do you know where you can get the items you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are represented as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is based on the number of protons an atom of that element has in its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lements tend to change in a regular pattern when elements are arranged in order of increasing atomic number, or number of protons in thei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horizontal row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up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ertical column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ocess of adding electrons to or removing electrons from an atom or group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atom or group of atoms that has lost or gained one or more electrons and therefore has a net 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posi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nega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uctures of a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umber of prot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otal number of protons and neutr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top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atoms having the same number of protons but different number of 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44:39Z</dcterms:created>
  <dc:creator>barnesc</dc:creator>
  <dc:description/>
  <dc:language>en-US</dc:language>
  <cp:lastModifiedBy>geistc</cp:lastModifiedBy>
  <dcterms:modified xsi:type="dcterms:W3CDTF">2012-11-06T20:18:51Z</dcterms:modified>
  <cp:revision>7</cp:revision>
  <dc:subject/>
  <dc:title>Chapter 3</dc:title>
</cp:coreProperties>
</file>