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D6F-5710-4A4A-87A0-6C9321BF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A8C-CD48-4E36-AE5E-A5260DC4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F1A-745D-4EFB-A7B0-5FA1F4BE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BA2-7301-4A03-BD3F-7B82F865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FE4-304B-4647-9FC7-D57F6DEC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1FC-C247-427E-BDFC-0B93DF02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7B5-79E6-4AC2-989D-BDB95BCB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C48-B67C-4639-B1FF-972AA6F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04B-E98E-4832-956F-A4C4F3B4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8CC-1BE7-4021-9DFF-CFF4743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A64-D883-496C-B4DE-594B3E6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E6E-82DB-43CA-9411-EAFB2E47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b8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3DB6-AFFC-438D-A9A2-54E6AB050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Guided Tour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ss of an at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ic mass unit (amu)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quantity equal to one-twelfth of the mass of a carbon-12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erage atomic mas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weighted average of the masses of all naturally occurring isotope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you can determine the number of neutrons an atom has from an atom’s mass number and its atomic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elements represented by the following symbo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, Br, Na, Mg, He, Fe, Cu, S, and 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why the elements in the periodic table are arranged in order of increasing atomic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go to a store, how do you know where you can get the items you n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are represented as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 is based on the number of protons an atom of that element has in its nucle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La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elements tend to change in a regular pattern when elements are arranged in order of increasing atomic number, or number of protons in their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horizontal row of element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oup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vertical column of elements in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me atoms form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process of adding electrons to or removing electrons from an atom or group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atom or group of atoms that has lost or gained one or more electrons and therefore has a net electric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ome atoms form 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ion with a positive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 ion with a negative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ructures of ato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omic number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number of protons in the nucleus of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ss number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total number of protons and neutrons in the nucleus of an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tope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y atoms having the same number of protons but different number of neu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. 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44:39Z</dcterms:created>
  <dc:creator>barnesc</dc:creator>
  <dc:description/>
  <dc:language>en-US</dc:language>
  <cp:lastModifiedBy>geistc</cp:lastModifiedBy>
  <dcterms:modified xsi:type="dcterms:W3CDTF">2012-11-06T20:18:51Z</dcterms:modified>
  <cp:revision>7</cp:revision>
  <dc:subject/>
  <dc:title>Chapter 3</dc:title>
</cp:coreProperties>
</file>