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0A15-5180-4CD8-9FDC-3C83EF16B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AFCD-910F-40F6-BCC9-7467DB3C1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5C9A-118D-4A86-B8C1-233BAC59C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2ED7-9EBE-453D-B7C9-EA5C38D00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3BBE-DF8D-49C3-A881-D9AE50383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6DE3-05B4-4793-84AB-57A1FBCE4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924F-2EEE-4D38-8341-27E1C1C58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38A8-776E-4697-9A78-4C3FB6492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C006-C701-41FD-982A-64E0FDD62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89B6-1FE3-4175-A561-2DA45AD9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E798-DDB2-4DF7-8391-5136D6EF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E209-FF28-45B1-ACFB-14B3423A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b8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D18DF-DBB8-427E-8AE3-0340062F0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 Guided Tour of the Periodic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Mass of an ato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tomic mass unit (amu)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 quantity equal to one-twelfth of the mass of a carbon-12 at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verage atomic mass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e weighted average of the masses of all naturally occurring isotopes of an ele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REVIEW!!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ain how you can determine the number of neutrons an atom has from an atom’s mass number and its atomic numb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REVIEW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elements represented by the following symbol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, Br, Na, Mg, He, Fe, Cu, S, and 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REVIEW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ribe why the elements in the periodic table are arranged in order of increasing atomic numb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you go to a store, how do you know where you can get the items you ne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eriodic Tab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s are represented as symb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der is based on the number of protons an atom of that element has in its nucle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eriodic La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elements tend to change in a regular pattern when elements are arranged in order of increasing atomic number, or number of protons in their at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eriodic Tab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erio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a horizontal row of elements in the periodic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roup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 vertical column of elements in the periodic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ome atoms form 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oniza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process of adding electrons to or removing electrons from an atom or group of at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an atom or group of atoms that has lost or gained one or more electrons and therefore has a net electric 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ome atoms form 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an ion with a positive 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n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an ion with a negative 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tructures of atom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tomic number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e number of protons in the nucleus of an at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ss number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e total number of protons and neutrons in the nucleus of an at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Isotop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sotope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ny atoms having the same number of protons but different number of neutr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: 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g. 8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2:44:39Z</dcterms:created>
  <dc:creator>barnesc</dc:creator>
  <dc:description/>
  <dc:language>en-US</dc:language>
  <cp:lastModifiedBy>geistc</cp:lastModifiedBy>
  <dcterms:modified xsi:type="dcterms:W3CDTF">2012-11-06T20:18:51Z</dcterms:modified>
  <cp:revision>7</cp:revision>
  <dc:subject/>
  <dc:title>Chapter 3</dc:title>
</cp:coreProperties>
</file>