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B31-97E4-4C8D-962B-EE602A9F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A5B-547C-423E-A1CB-3A18D447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11CE-A175-424F-9E1A-C3E6ED18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09A-E8D8-4FB6-8639-7A177A6C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493-71C6-410C-97B1-07470703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705-65A6-454B-87C4-1574F6AC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F4F-FD03-4F91-8609-B489C596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3885-5C65-47F3-8075-3F940EED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AE1-443E-4807-9541-3BDB1C6D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7F9-A2E8-4AD7-B0B7-974A6CD9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7BE-1D91-4789-A52C-3E12EF4E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0E3-6085-408A-845E-B7A4A383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b8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B7B1-8ABA-4F54-AA1A-B983E4C1D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Guided Tour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ss of an at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omic mass unit (amu)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quantity equal to one-twelfth of the mass of a carbon-12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verage atomic mas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weighted average of the masses of all naturally occurring isotope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you can determine the number of neutrons an atom has from an atom’s mass number and its atomic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elements represented by the following symbo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, Br, Na, Mg, He, Fe, Cu, S, and 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why the elements in the periodic table are arranged in order of increasing atomic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you go to a store, how do you know where you can get the items you n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are represented as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is based on the number of protons an atom of that element has in its nucle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iodic La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lements tend to change in a regular pattern when elements are arranged in order of increasing atomic number, or number of protons in their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horizontal row of elements in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oup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vertical column of elements in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me atoms form 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n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process of adding electrons to or removing electrons from an atom or group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 atom or group of atoms that has lost or gained one or more electrons and therefore has a net electric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me atoms form 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 ion with a positive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 ion with a negative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ructures of ato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omic number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number of protons in the nucleus of an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ss number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total number of protons and neutrons in the nucleus of an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otope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y atoms having the same number of protons but different number of neu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. 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44:39Z</dcterms:created>
  <dc:creator>barnesc</dc:creator>
  <dc:description/>
  <dc:language>en-US</dc:language>
  <cp:lastModifiedBy>geistc</cp:lastModifiedBy>
  <dcterms:modified xsi:type="dcterms:W3CDTF">2012-11-06T20:18:51Z</dcterms:modified>
  <cp:revision>7</cp:revision>
  <dc:subject/>
  <dc:title>Chapter 3</dc:title>
</cp:coreProperties>
</file>