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3769-80D9-4EB9-A2C6-524B6D1E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630-2FE5-4FAA-A8FA-E47735EF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6ECE-7A73-4C4E-84C8-41112EA2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A12-B509-4824-9249-12DA0E6E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724-9F38-48F8-8C1D-D6027D8E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0E12-4A26-4201-A20B-A617E357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D99-536A-4C57-B1F0-1DF764A6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68D7-F672-407D-BC2B-90E95159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144-1B84-4A0D-BEAC-8D39E060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4EFE-A5DA-4C92-A70F-98CB869A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5A5-5FAC-48CB-B8C0-B4E0AE72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C3E-E186-4E8D-9F93-E4E2FA04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7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8203-955A-4E55-A24C-99577342B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ensity is a physical proper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helium filled balloons flo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ensity is a physical proper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ensity is a physical proper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sities of cream and mi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make skim mil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oyanc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force with which a more dense fluid pushes a less dense substance up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mical change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change that occurs when a substance changes composition by forming one or more new subst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sical chang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substance may look different, but the atoms that make up the substance are not changed or rearran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dissolving sugar into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ar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94000"/>
            <a:ext cx="91440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me and engine made of steel (iron, carbon, and other elemen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res are made of rub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quid gasoline becomes a gas before it is bu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EXAMPLES OF CHEMIST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906768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&amp; Physical Proper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mical property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way a substance reacts with others to form new substances with different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Rust on c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ctiv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ability of a substance to combine chemically with another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amma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chemical property that describes whether substances will react in the presence of oxygen and burn when exposed to a fl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sical properti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characteristic of a substance that can be observed or measured without changing the composition of the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: shape, color, odor, and tex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lting point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temperature at which a solid becomes a liq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iling point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temperature at which a liquid becomes a gas below the su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 boils at 100 degree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 freezes at 0 degree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ensity is a physical proper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ns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mass per unit volume of a sub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=m/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2:50:41Z</dcterms:created>
  <dc:creator>barnesc</dc:creator>
  <dc:description/>
  <dc:language>en-US</dc:language>
  <cp:lastModifiedBy>geistc</cp:lastModifiedBy>
  <dcterms:modified xsi:type="dcterms:W3CDTF">2013-09-27T16:26:50Z</dcterms:modified>
  <cp:revision>6</cp:revision>
  <dc:subject/>
  <dc:title>Chapter 2</dc:title>
</cp:coreProperties>
</file>