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35C-0088-42A3-A756-8C451887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ED2-912B-4385-A361-5228DFC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F53-7D69-4E0A-8E15-CB46ABA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3E0-6078-4E82-9E5F-9E58D586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359-82A0-47BC-A169-83363B4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F6A-2061-4343-B338-9A902D29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E15-0579-4C8C-BFD8-93AED53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81E-701D-4772-A253-C3B5065A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0B7-0145-4737-8A4A-30CB2A8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C8E-A0CF-4D85-992E-DA5FAAA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167-6C88-425C-B734-0A76D04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DF-2B0B-4D07-8762-87FD2646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7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496-3676-4B8F-B73C-CEE9E12D1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helium filled balloons flo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ies of cream and 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ake skim mi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with which a more dense fluid pushes a less dense substance up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chang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nge that occurs when a substance changes composition by forming one or more new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chang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bstance may look different, but the atoms that make up the substance are not changed or rearr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dissolving sugar into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9400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 and engine made of steel (iron, carbon, and other eleme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 are made of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gasoline becomes a gas before it is bu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EXAMPLES OF CHEMIS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&amp; 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propert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ay a substance reacts with others to form new substances with differe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Rust on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of a substance to combine chemically with another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mm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chemical property that describes whether substances will react in the presence of oxygen and burn when exposed to a f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properti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racteristic of a substance that can be observed or measured without changing the composition of th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shape, color, odor, and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lt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solid becomes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il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liquid becomes a gas below the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boils at 10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freezes at 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mass per unit volume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50:41Z</dcterms:created>
  <dc:creator>barnesc</dc:creator>
  <dc:description/>
  <dc:language>en-US</dc:language>
  <cp:lastModifiedBy>geistc</cp:lastModifiedBy>
  <dcterms:modified xsi:type="dcterms:W3CDTF">2013-09-27T16:26:50Z</dcterms:modified>
  <cp:revision>6</cp:revision>
  <dc:subject/>
  <dc:title>Chapter 2</dc:title>
</cp:coreProperties>
</file>