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B7B5-EAD1-4863-A838-D8E3C6B43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CDB7-7291-480E-A0CD-2B7935415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E4D9-7BFA-46C8-A4B1-0F4098707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B91F-4AED-4212-885C-BB181530A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211E-DD27-4E66-A5D9-D49226AAF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E073-1B95-4DAD-A6C4-3B6D9FE2C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B1FA-9103-48FC-8744-B7CF7276A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9131-B3D6-464F-8052-9E4671E90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4BD1-DE39-42F2-BEBB-9C471BB2F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A3B6-83DA-4132-A07B-363B6489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C47C-959E-41B1-A563-45BAB2CCA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5CF8-B03E-4250-BB01-CC7578298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75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5BE59-DDA8-4A7C-B4DA-30542CEC3C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hapter 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tion 2.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erties of Mat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Density is a physical property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do helium filled balloons flo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Density is a physical property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Density is a physical property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46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nsities of cream and mil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 we make skim mil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uoyanc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the force with which a more dense fluid pushes a less dense substance upw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hange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hemical change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 change that occurs when a substance changes composition by forming one or more new substa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hange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hysical changes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 substance may look different, but the atoms that make up the substance are not changed or rearrang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: dissolving sugar into wa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ar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494000"/>
            <a:ext cx="91440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me and engine made of steel (iron, carbon, and other elemen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res are made of rubb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quid gasoline becomes a gas before it is bu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 EXAMPLES OF CHEMISTRY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9067680" cy="12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hemical &amp; Physical Propertie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hemical property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he way a substance reacts with others to form new substances with different proper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hemical propertie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: Rust on c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activit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the ability of a substance to combine chemically with another subs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hemical propertie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lammabl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chemical property that describes whether substances will react in the presence of oxygen and burn when exposed to a fl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Physical propertie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hysical properties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 characteristic of a substance that can be observed or measured without changing the composition of the subs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Physical propertie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: shape, color, odor, and tex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lting point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he temperature at which a solid becomes a liqu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oiling point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he temperature at which a liquid becomes a gas below the su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ter boils at 100 degrees 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ter freezes at 0 degrees 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Density is a physical property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nsit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the mass per unit volume of a subs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=m/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12:50:41Z</dcterms:created>
  <dc:creator>barnesc</dc:creator>
  <dc:description/>
  <dc:language>en-US</dc:language>
  <cp:lastModifiedBy>geistc</cp:lastModifiedBy>
  <dcterms:modified xsi:type="dcterms:W3CDTF">2013-09-27T16:26:50Z</dcterms:modified>
  <cp:revision>6</cp:revision>
  <dc:subject/>
  <dc:title>Chapter 2</dc:title>
</cp:coreProperties>
</file>