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609-679E-47B8-BF76-20C3905B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21E-46D1-47A1-85A5-E27E200E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03A-0F5E-410F-9C36-2F6C37BC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831-CECE-4117-BCB6-CB829869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456-94D8-41B3-96A7-E560ECB4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F1E-4D05-49DD-8337-CCFB3D4C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693-5B9D-4EEA-ADFD-15AE251D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59B-161B-4A7A-9E23-AEFDDD5A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106-68D0-45B6-AC81-6532B1BA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708-6401-4642-A431-5A8703A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051-DC89-4337-ADB7-FEEEBE1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28E-D854-4E44-AC28-4C9685B1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7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9AA0-E148-48E3-B165-DBD5F074A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helium filled balloons flo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ies of cream and m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make skim mi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oyanc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force with which a more dense fluid pushes a less dense substance up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chang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hange that occurs when a substance changes composition by forming one or more new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chang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bstance may look different, but the atoms that make up the substance are not changed or rearran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dissolving sugar into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a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9400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 and engine made of steel (iron, carbon, and other eleme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es are made of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gasoline becomes a gas before it is bu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EXAMPLES OF CHEMIST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06768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&amp; 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propert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way a substance reacts with others to form new substances with differe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Rust on c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ctiv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bility of a substance to combine chemically with another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amm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chemical property that describes whether substances will react in the presence of oxygen and burn when exposed to a fl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properti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haracteristic of a substance that can be observed or measured without changing the composition of the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: shape, color, odor, and 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lting poi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emperature at which a solid becomes a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iling poi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emperature at which a liquid becomes a gas below the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boils at 100 degree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freezes at 0 degree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mass per unit volume of a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=m/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2:50:41Z</dcterms:created>
  <dc:creator>barnesc</dc:creator>
  <dc:description/>
  <dc:language>en-US</dc:language>
  <cp:lastModifiedBy>geistc</cp:lastModifiedBy>
  <dcterms:modified xsi:type="dcterms:W3CDTF">2013-09-27T16:26:50Z</dcterms:modified>
  <cp:revision>6</cp:revision>
  <dc:subject/>
  <dc:title>Chapter 2</dc:title>
</cp:coreProperties>
</file>