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32C-D32B-404D-868B-919C36E1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FF1-1D59-417A-8785-35CA656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8F9-456F-4232-9CD8-02B01DF9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1BD-CC4B-4CC6-A5C1-7F66DB72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91C-83C3-4096-952A-E96A63A4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005-067E-439E-BC3C-D8FB4F2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B4A-74E6-4035-AA2D-827A3B0E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5E2-8B7A-4B58-B536-83BBCD8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586-54AF-499D-BF09-8A60F5C5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B53-8978-4314-982F-9F43183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E6E-6D11-4CEF-B84A-B8289B07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4CB-FF05-4053-9974-EA4AB11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95EC-736E-47A0-94D6-CE37D80BB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ter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quids take the shape of contain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ticles are not as attracted as strong as a solid, so they are able to move more free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s and gases can spread, so they are call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lu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c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resistance of a fluid to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onger the attraction, the more slowly the liquid will flow, and the higher the viscosity will b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ources of energy would you use if the power was o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bility to change or move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e recycle aluminum cans, the cans are melted, which causes the molecules to move fas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s required to melt aluminum because the particles must break away from their fixed posi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feel the effects of an energy change when you feel a breeze after you have been perspi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poration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change of a substance from a liquid to a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the molecules during this proc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is transferr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change of a substance from a gas to a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appening to the molecules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is transferr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lim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change of a substance from a solid to a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ice c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868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ing state does not change composition or ma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water- solid, liquid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cannot be created or destr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burning a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matter is made of atoms and molecules that act like tiny p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iny particles are always in motion. The higher the temperature, the faster the particles mo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aw of conservation of 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nnot be created or destr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starting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ener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law of conservation of mass and the law of conservation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wo examples for each of the three common 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shape and volume of solids, liquids, and ga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same temperature, more massive (heavier) particles move slower than less massive (lighter) p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tool for visualizing the differences between the three common states of matter: solid, liquid, and g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 States of Matter are Differ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molecules are tightly packed and have a specific 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vibrate and move slowly throug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molecules move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 States of Matter are Differ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008"/>
          <p:cNvPicPr/>
          <p:nvPr/>
        </p:nvPicPr>
        <p:blipFill>
          <a:blip r:embed="rId1"/>
          <a:stretch/>
        </p:blipFill>
        <p:spPr>
          <a:xfrm>
            <a:off x="1143000" y="1728720"/>
            <a:ext cx="68580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ases spread in all direc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oon filled with helium (light air) goes flat before a balloon filled with 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ases can exert press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force exerted per unit area of a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a balloon to p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blow up a balloon and let it go before tying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Solids have a rigid structu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ystals of salt cannot move freely, but can vibrate in pl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ubes hold the shape of the ice tray before they me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37:29Z</dcterms:created>
  <dc:creator>barnesc</dc:creator>
  <dc:description/>
  <dc:language>en-US</dc:language>
  <cp:lastModifiedBy>geistc</cp:lastModifiedBy>
  <dcterms:modified xsi:type="dcterms:W3CDTF">2013-09-27T16:26:11Z</dcterms:modified>
  <cp:revision>6</cp:revision>
  <dc:subject/>
  <dc:title>Chapter 2</dc:title>
</cp:coreProperties>
</file>