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1DC-A140-4EB1-BFC8-009F2E65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986-3B7A-48B9-BBDF-C5789D17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D20-303B-4E7A-8543-EF027DC6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698-8CE3-4344-8C20-843301E0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717-0ACF-4CC3-8C26-54BD394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075-9CEA-42B1-BD92-B81331C4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984-F674-4DE1-A252-33BF273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AF8-88C6-4A9A-B1B0-26948CE9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C74-EA94-466D-9489-7EB5464F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959-B5D5-42E8-995D-7750B79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459-68E2-4B01-99CF-D162526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7F5-5B8A-469B-91AF-081F987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7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7704-1038-4AC0-8402-DF66C63D0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ter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 take the shape of contain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icles are not as attracted as strong as a solid, so they are able to move more free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s and gases can spread, so they are call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c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resistance of a fluid to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onger the attraction, the more slowly the liquid will flow, and the higher the viscosity will b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ources of energy would you use if the power was of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to change or move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recycle aluminum cans, the cans are melted, which causes the molecules to move fas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required to melt aluminum because the particles must break away from their fixed posi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feel the effects of an energy change when you feel a breeze after you have been perspi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poration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change of a substance from a liqu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to the molecules during this proc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gas to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appening to the molecules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is transferr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blim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change of a substance from a solid to a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ice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6868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ing state does not change composition or ma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water- solid, liquid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burning a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matter is made of atoms and molecules that act like tiny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e tiny particles are always in motion. The higher the temperature, the faster the particles mo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aw of conservation of ener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cannot be created or destr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tarting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ener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law of conservation of mass and the law of conservation of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two examples for each of the three common 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shape and volume of solids, liquids, and ga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the same temperature, more massive (heavier) particles move slower than less massive (lighter) partic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ool for visualizing the differences between the three common states of matter: solid, liquid, and g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i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are tightly packed and have a specific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qu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vibrate and move slowly throug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molecules move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 States of Matter are Differ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age008"/>
          <p:cNvPicPr/>
          <p:nvPr/>
        </p:nvPicPr>
        <p:blipFill>
          <a:blip r:embed="rId1"/>
          <a:stretch/>
        </p:blipFill>
        <p:spPr>
          <a:xfrm>
            <a:off x="1143000" y="172872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spread in all dire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oon filled with helium (light air) goes flat before a balloon filled with 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ases can exert press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exerted per unit area of a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a balloon to p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when you blow up a balloon and let it go before tying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Solids have a rigid structu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ystals of salt cannot move freely, but can vibrate in pla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 cubes hold the shape of the ice tray before they m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37:29Z</dcterms:created>
  <dc:creator>barnesc</dc:creator>
  <dc:description/>
  <dc:language>en-US</dc:language>
  <cp:lastModifiedBy>geistc</cp:lastModifiedBy>
  <dcterms:modified xsi:type="dcterms:W3CDTF">2013-09-27T16:26:11Z</dcterms:modified>
  <cp:revision>6</cp:revision>
  <dc:subject/>
  <dc:title>Chapter 2</dc:title>
</cp:coreProperties>
</file>