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47E-54FB-45B0-A6CA-965E6F31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8AD-8ABC-4B94-899C-A36482E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1E8-AA46-498A-8F58-5E9A4C45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3E6-0EE1-4A23-9394-A36BC6FE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F7E-E5E9-4E78-ABE8-9EEB7AF9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C8E-B461-429F-A1F1-06FD25B5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5FA-F6D3-49B6-BB8F-4ED54C2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4B2-5F11-45A1-BBCA-ADA25B2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10A-65F0-4AB4-82E4-35973BE3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C2F-2BB2-4F66-80B7-554B113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D8B-2E72-4375-B877-203645F7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161-E0EC-4660-B7DD-DD7FB7A0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DD9-196A-4302-B6D8-C593F671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 take the shape of contain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icles are not as attracted as strong as a solid, so they are able to move more fre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s and gases can spread, so they are call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resistance of a fluid to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onger the attraction, the more slowly the liquid will flow, and the higher the viscosity will 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ources of energy would you use if the power was o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to change or move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recycle aluminum cans, the cans are melted, which causes the molecules to move fas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required to melt aluminum because the particles must break away from their fixed posi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feel the effects of an energy change when you feel a breeze after you have been perspi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poration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ange of a substance from a liqu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the molecules during this proc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gas to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ppening to the molecule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sol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ice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ing state does not change composition or ma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water- solid, liquid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burning a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matter is made of atoms and molecules that act like tiny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iny particles are always in motion. The higher the temperature, the faster the particles mo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aw of conservation of 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tarting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ener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law of conservation of mass and the law of 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wo examples for each of the three common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shape and volume of solids, liquids, and ga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emperature, more massive (heavier) particles move slower than less massive (lighter)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ool for visualizing the differences between the three common states of matter: solid, liquid, and 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are tightly packed and have a specific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vibrate and move slowly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move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008"/>
          <p:cNvPicPr/>
          <p:nvPr/>
        </p:nvPicPr>
        <p:blipFill>
          <a:blip r:embed="rId1"/>
          <a:stretch/>
        </p:blipFill>
        <p:spPr>
          <a:xfrm>
            <a:off x="1143000" y="172872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spread in all dire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 filled with helium (light air) goes flat before a balloon filled with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can exert press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exerted per unit area of a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a balloon to p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blow up a balloon and let it go before tying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Solids have a rigid structu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ystals of salt cannot move freely, but can vibrate in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ubes hold the shape of the ice tray before they m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37:29Z</dcterms:created>
  <dc:creator>barnesc</dc:creator>
  <dc:description/>
  <dc:language>en-US</dc:language>
  <cp:lastModifiedBy>geistc</cp:lastModifiedBy>
  <dcterms:modified xsi:type="dcterms:W3CDTF">2013-09-27T16:26:11Z</dcterms:modified>
  <cp:revision>6</cp:revision>
  <dc:subject/>
  <dc:title>Chapter 2</dc:title>
</cp:coreProperties>
</file>