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F80-219E-4B21-98AE-078B55C7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267-E01B-46CF-B05A-034F2F83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CB2-1056-4C9E-A6F2-1D8E52A0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DB2-2C16-43AF-AE8A-0B6C39B1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4F9-D685-48BC-83BB-DA5621AE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761-E789-45A3-B563-DE60465F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053-F7D6-4F4B-B419-E94DFB89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807-6727-4F1B-9B20-B88EC839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3D3-7E7F-4B49-A75D-46A9342F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2C2C-6902-4F15-83F9-5B905D24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1E5-2E7C-4B02-BD4B-CCE2F708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0F0-CB02-4BBB-A1C5-5C064BA1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1BE1-857D-4A57-89BF-909DF6F72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ter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quids take the shape of contain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ticles are not as attracted as strong as a solid, so they are able to move more free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s and gases can spread, so they are calle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lui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co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resistance of a fluid to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ronger the attraction, the more slowly the liquid will flow, and the higher the viscosity will b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ources of energy would you use if the power was of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bility to change or move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e recycle aluminum cans, the cans are melted, which causes the molecules to move fas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s required to melt aluminum because the particles must break away from their fixed posi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feel the effects of an energy change when you feel a breeze after you have been perspir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poration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change of a substance from a liquid to a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the molecules during this proc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 is transferre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ens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change of a substance from a gas to a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appening to the molecules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 is transferre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lim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change of a substance from a solid to a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ice c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6868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nging state does not change composition or mas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water- solid, liquid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w of conservation of mas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cannot be created or destro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burning a 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matter is made of atoms and molecules that act like tiny partic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tiny particles are always in motion. The higher the temperature, the faster the particles mo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aw of conservation of 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nnot be created or destro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starting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ener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the law of conservation of mass and the law of conservation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two examples for each of the three common 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the shape and volume of solids, liquids, and ga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same temperature, more massive (heavier) particles move slower than less massive (lighter) partic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tool for visualizing the differences between the three common states of matter: solid, liquid, and g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 States of Matter are Differ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i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molecules are tightly packed and have a specific arran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qui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vibrate and move slowly throug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molecules move quick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 States of Matter are Differ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age008"/>
          <p:cNvPicPr/>
          <p:nvPr/>
        </p:nvPicPr>
        <p:blipFill>
          <a:blip r:embed="rId1"/>
          <a:stretch/>
        </p:blipFill>
        <p:spPr>
          <a:xfrm>
            <a:off x="1143000" y="1728720"/>
            <a:ext cx="68580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ases spread in all direc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oon filled with helium (light air) goes flat before a balloon filled with 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ases can exert pressu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force exerted per unit area of a su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a balloon to po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when you blow up a balloon and let it go before tying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Solids have a rigid structu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ystals of salt cannot move freely, but can vibrate in pl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e cubes hold the shape of the ice tray before they mel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37:29Z</dcterms:created>
  <dc:creator>barnesc</dc:creator>
  <dc:description/>
  <dc:language>en-US</dc:language>
  <cp:lastModifiedBy>geistc</cp:lastModifiedBy>
  <dcterms:modified xsi:type="dcterms:W3CDTF">2013-09-27T16:26:11Z</dcterms:modified>
  <cp:revision>6</cp:revision>
  <dc:subject/>
  <dc:title>Chapter 2</dc:title>
</cp:coreProperties>
</file>