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DEF-821E-423D-988A-DB96D4DA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0BC-8F8F-4386-B334-B3D1969E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B959-646D-4573-B5B6-B89B2FCD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80B-BF08-4F1B-99D2-38957D26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365-A8D1-458E-9470-02BD8362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242-B1A2-456A-A11B-BC6FBEEF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502-488C-49FF-A33F-E4524A96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C68-69F2-4AD9-B85F-105B2A47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EE2A-A609-42F3-B707-712A64CF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6C2A-DBC7-4A05-8E1C-CB2AB428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3A4-71E9-434D-B375-6CA2F164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EDA-C98A-4F0C-974E-22617A24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6995-54ED-49B5-80BA-553DCB9F4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a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Formul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mical formula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chemical symbols and numbers indicating the atoms contained in the basic unit of a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Formul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# of atoms of each element in the basic unit is written after the element’s symbol as a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ub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carbon dioxide is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 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Formul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s placed in front of the chemical formula show the # of 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sugar 3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ure substance or mixtur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re substance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y matter that has a fixed composition and definit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Pure substance or mixture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xt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 combination of more than one pure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grape juice- water, sugars, acids, and vita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erogeneous mixture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ubstances are not uniformly mix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mixture of flour and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ogeneous mixtur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ixing occurs between the individual units and is the same throug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mixture of salt and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sci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describes two or more liquids that are able to dissolve into each other in various propor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Gaso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42: Figure 2-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misci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describes two or more liquids that do not mix into each 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Oil and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chemist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 the two types of pure substanc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why light is not mat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mist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study of matter and how it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How to make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the makeup of pure water, and write its chemical formu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nd contrast mixtures and pure substances. Give an example of eac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t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ything that has mass and occupies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you, your book, the air, 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Atoms are 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 substance that cannot be broken down into simpler subst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o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smallest particle that has the properties of an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Atoms are 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od is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ood gets hot enough, it chars- turning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lack color is carbon, which is an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Atoms are 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monds are made of carbon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il around your baked potato is made of the element alumin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 2.3 page 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ou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 substance made of atoms of more than one element bound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or more elements combine chemically to make a comp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nylon- made up of: carbon, hydrogen, nitrogen, and oxygen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even though some of these elements are gases, they form a solid of nyl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olecules as a uni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lecu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smallest unit of a substance that exhibits all of the properties characteristic of that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Water (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8:00:07Z</dcterms:created>
  <dc:creator>barnesc</dc:creator>
  <dc:description/>
  <dc:language>en-US</dc:language>
  <cp:lastModifiedBy>barnesc</cp:lastModifiedBy>
  <dcterms:modified xsi:type="dcterms:W3CDTF">2008-10-07T18:32:28Z</dcterms:modified>
  <cp:revision>4</cp:revision>
  <dc:subject/>
  <dc:title>Chapter 2</dc:title>
</cp:coreProperties>
</file>