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48D-7EC4-4774-BF97-7BDB3310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E9B-D187-4309-810E-C4060658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EAD-5091-4204-B2F5-16D54193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B914-7151-4DFE-8884-8A97D636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9C9-A756-417E-A3DB-B9DCA8F8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326-1645-4A53-94CA-CCDF1DFA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520-A768-491E-94C9-09969B67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CF5-2F8B-4130-B07C-BE7F1AE9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047-90CE-4F70-B147-1FDC295D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533-6DEA-4A3C-98D1-44F08C29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BA2F-AB90-4AF1-88D7-AEE7F4DF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249-A983-41F6-9A77-904FD664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3958-57BD-46DE-81F2-B2C48B15F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a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Formul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cal formula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chemical symbols and numbers indicating the atoms contained in the basic unit of a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Formul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# of atoms of each element in the basic unit is written after the element’s symbol as a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ub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carbon dioxide is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ot 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Formula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s placed in front of the chemical formula show the # of molec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sugar 3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ure substance or mixtur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re substance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y matter that has a fixed composition and definit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Pure substance or mixture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x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combination of more than one pure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grape juice- water, sugars, acids, and vita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erogeneous mixture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ubstances are not uniformly mix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mixture of flour an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ogeneous mixtur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ixing occurs between the individual units and is the same throug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mixture of salt an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sci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describes two or more liquids that are able to dissolve into each other in various propor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Gaso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42: Figure 2-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misci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describes two or more liquids that do not mix into each 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Oil an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chemist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 the two types of pure substan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why light is not mat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st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study of matter and how it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How to make 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the makeup of pure water, and write its chemical form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mixtures and pure substances. Give an example of eac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t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ything that has mass and occupies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you, your book, the air,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toms are 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substance that cannot be broken down into simpler subst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smallest particle that has the properties of an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toms are 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od is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ood gets hot enough, it chars- turning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lack color is carbon, which is an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toms are 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monds are made of carbon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around your baked potato is made of the element alumin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 2.3 page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at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u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substance made of atoms of more than one element bound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or more elements combine chemically to make a comp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nylon- made up of: carbon, hydrogen, nitrogen, and oxygen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even though some of these elements are gases, they form a solid of nyl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olecules as a uni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smallest unit of a substance that exhibits all of the properties characteristic of that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Water (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00:07Z</dcterms:created>
  <dc:creator>barnesc</dc:creator>
  <dc:description/>
  <dc:language>en-US</dc:language>
  <cp:lastModifiedBy>barnesc</cp:lastModifiedBy>
  <dcterms:modified xsi:type="dcterms:W3CDTF">2008-10-07T18:32:28Z</dcterms:modified>
  <cp:revision>4</cp:revision>
  <dc:subject/>
  <dc:title>Chapter 2</dc:title>
</cp:coreProperties>
</file>