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A0F-1033-405B-BA3E-201BEF78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FA1-D660-4C5F-BEBB-80FF44BB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F69-8464-465F-B6BC-D769AFF3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1E8-B12B-4D3F-8E76-F8554116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F33-FA2B-467B-B1A7-E29BF54A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EA0-984F-4014-953D-C3614941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AD8-3508-4EB9-8BE7-48405C7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E32-AD4C-4A65-B0F0-03D1F297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7A8-1E02-4842-B4E3-39DF6F35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F81-691D-44E8-8BA7-FB06445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CBB-9CBD-4EF7-865B-F069D41F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AA3-0A54-44B7-9320-357AFE63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3B1C-4B31-4631-8190-520472FE6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formula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chemical symbols and numbers indicating the atoms contained in the basic unit of a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# of atoms of each element in the basic unit is written after the element’s symbol as 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ub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carbon dioxide is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s placed in front of the chemical formula show the # of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sugar 3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ure substance or mixtur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e substanc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y matter that has a fixed composition and definit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Pure substance or mixtur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x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combination of more than one pure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grape juice- water, sugars, acids, and vita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erogeneous mixtur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ubstances are not uniformly mix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mixture of flour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ogeneous mixtur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xing occurs between the individual units and is the same throug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mixture of salt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sc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escribes two or more liquids that are able to dissolve into each other in various propor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Gaso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42: Figure 2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misc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escribes two or more liquids that do not mix into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Oil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chemis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the two types of pure substan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why light is not mat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st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tudy of matter and how it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How to make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e makeup of pure water, and write its chemical form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mixtures and pure substances. Give an example of ea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thing that has mass and occupies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you, your book, the air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ubstance that cannot be broken down into simpler sub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mallest particle that has the properties of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od is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ood gets hot enough, it chars- turning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 color is carbon, which is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onds are made of carbon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around your baked potato is made of the element alumin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 2.3 page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ubstance made of atoms of more than one element bound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or more elements combine chemically to make a comp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nylon- made up of: carbon, hydrogen, nitrogen, and oxygen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even though some of these elements are gases, they form a solid of nyl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olecules as a uni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mallest unit of a substance that exhibits all of the properties characteristic of that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Water (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00:07Z</dcterms:created>
  <dc:creator>barnesc</dc:creator>
  <dc:description/>
  <dc:language>en-US</dc:language>
  <cp:lastModifiedBy>barnesc</cp:lastModifiedBy>
  <dcterms:modified xsi:type="dcterms:W3CDTF">2008-10-07T18:32:28Z</dcterms:modified>
  <cp:revision>4</cp:revision>
  <dc:subject/>
  <dc:title>Chapter 2</dc:title>
</cp:coreProperties>
</file>