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5AC7-2C41-43CE-97B8-1F3F7E3A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16CE-726D-4CE9-9D8B-3AF02333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B7D7-B7E9-4B2D-B6CF-F862B384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AC94-6133-4D40-92B8-B98558D0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9E3C-0CE5-4077-AD23-DA760621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42B5-D52F-412E-9DF1-4720A9EB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1447-F009-4295-9E3E-B960869A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9E21-A8E4-4600-82CA-5CC8D482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0CFE-EC5A-436A-AFC5-35A6B489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EF8F-6ADB-42CC-A500-E6478F8F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C7F1-0203-4EEF-A7A3-E81B5BF2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8EC1-8BA6-46CE-BE1F-E97D6EB4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3C93-4384-4E64-9943-283AD2F3C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2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Mat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emical Formul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mical formula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chemical symbols and numbers indicating the atoms contained in the basic unit of a sub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emical Formul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# of atoms of each element in the basic unit is written after the element’s symbol as a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ub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, carbon dioxide is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not 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emical Formul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s placed in front of the chemical formula show the # of molec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sugar 3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ure substance or mixture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re substance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y matter that has a fixed composition and definite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Pure substance or mixture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xt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 combination of more than one pure sub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grape juice- water, sugars, acids, and vitam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be separ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erogeneous mixture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ubstances are not uniformly mix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mixture of flour and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mogeneous mixture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ixing occurs between the individual units and is the same through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mixture of salt and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sci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describes two or more liquids that are able to dissolve into each other in various propor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Gaso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42: Figure 2-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misci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describes two or more liquids that do not mix into each 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Oil and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 chemistr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 the two types of pure substanc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why light is not mat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att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mist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study of matter and how it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How to make g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e the makeup of pure water, and write its chemical formul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and contrast mixtures and pure substances. Give an example of each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att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tt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nything that has mass and occupies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you, your book, the air, et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Atoms are Matt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 substance that cannot be broken down into simpler subst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o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smallest particle that has the properties of an 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Atoms are Matt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od is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wood gets hot enough, it chars- turning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lack color is carbon, which is an 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Atoms are Matt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monds are made of carbon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il around your baked potato is made of the element alumin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 2.3 page 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att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ou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 substance made of atoms of more than one element bound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or more elements combine chemically to make a comp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nylon- made up of: carbon, hydrogen, nitrogen, and oxygen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, even though some of these elements are gases, they form a solid of nyl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olecules as a uni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lecu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smallest unit of a substance that exhibits all of the properties characteristic of that sub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Water (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8:00:07Z</dcterms:created>
  <dc:creator>barnesc</dc:creator>
  <dc:description/>
  <dc:language>en-US</dc:language>
  <cp:lastModifiedBy>barnesc</cp:lastModifiedBy>
  <dcterms:modified xsi:type="dcterms:W3CDTF">2008-10-07T18:32:28Z</dcterms:modified>
  <cp:revision>4</cp:revision>
  <dc:subject/>
  <dc:title>Chapter 2</dc:title>
</cp:coreProperties>
</file>