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0DA-EDAD-47E0-B1CD-E50CE0F8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61A-8E93-42D2-84C2-33443994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EBA-0499-4A69-A917-0E9C810D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1DA-2F18-4CA2-94F2-5798307E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792-6A8E-4062-9469-1A60D97B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E8A-DEFC-48BB-A56F-D4CA97AE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5D7-6933-4497-91B7-01122D4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766-5222-4A71-9E67-30F3A01F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D8A-149D-48FB-94CD-77B2688E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741-3F25-4D17-A571-7996982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1B6-C64A-46E9-ABDB-8453181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0AE-3B0A-4146-A7C5-550757C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509B-0BAA-40EE-A010-7EB1C62F8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CIence_20logo"/>
          <p:cNvPicPr/>
          <p:nvPr/>
        </p:nvPicPr>
        <p:blipFill>
          <a:blip r:embed="rId1"/>
          <a:stretch/>
        </p:blipFill>
        <p:spPr>
          <a:xfrm>
            <a:off x="2895480" y="2716200"/>
            <a:ext cx="32227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ative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ated as a mathemat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= l X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two main branches of physical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a scientific theory differs from a guess or an opi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quantitative and qualitative descrip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a scientific model is used, and give an example of a scientific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scientific law and give an exam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 Method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investi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pla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always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ienceCover"/>
          <p:cNvPicPr/>
          <p:nvPr/>
        </p:nvPicPr>
        <p:blipFill>
          <a:blip r:embed="rId1"/>
          <a:stretch/>
        </p:blipFill>
        <p:spPr>
          <a:xfrm>
            <a:off x="3711600" y="46483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ystem of knowledge based on facts or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, studying, and experimenting to find 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du_science_microscope_set_150x_450x_900x_reviews_292355_300"/>
          <p:cNvPicPr/>
          <p:nvPr/>
        </p:nvPicPr>
        <p:blipFill>
          <a:blip r:embed="rId1"/>
          <a:stretch/>
        </p:blipFill>
        <p:spPr>
          <a:xfrm>
            <a:off x="64008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any- study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logy- stud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- study of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and Agri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- study of matter and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- study of forces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- study of the history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ology- study of the atmosphere and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pplication of science to meet human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chnology3_new"/>
          <p:cNvPicPr/>
          <p:nvPr/>
        </p:nvPicPr>
        <p:blipFill>
          <a:blip r:embed="rId1"/>
          <a:stretch/>
        </p:blipFill>
        <p:spPr>
          <a:xfrm>
            <a:off x="2895480" y="2717640"/>
            <a:ext cx="5410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Theor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ested, possible explanation of a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La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La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mmary of an observed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ative stateme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scribe the law of gravitation. Something you hold will fall to Earth when you let it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55Z</dcterms:created>
  <dc:creator>Chelsea</dc:creator>
  <dc:description/>
  <dc:language>en-US</dc:language>
  <cp:lastModifiedBy>geistc</cp:lastModifiedBy>
  <dcterms:modified xsi:type="dcterms:W3CDTF">2013-09-03T15:51:44Z</dcterms:modified>
  <cp:revision>20</cp:revision>
  <dc:subject/>
  <dc:title>Chapter 1</dc:title>
</cp:coreProperties>
</file>