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14F-90D1-4FF0-AED8-CCAE378B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230-F675-406B-ABC3-1F30149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13C-2181-4DEB-A08A-986A55CB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C63-C86C-444F-9F50-AA75490F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2E6-B3AB-4475-84A2-49B1BA9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1D8-B1CD-4DEC-97EC-ECC82B07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56B-36D9-463C-896F-C2033E6E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EF6-CD94-48D0-874D-42564E79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B22-D491-48D9-B688-C07F697F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CB1-2F06-446A-9862-42CF914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E7D-15C2-42E3-BAFF-571D3177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874-5478-4934-BB05-E98EEE92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66AE-26BC-41A9-B1BE-A2D071066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CIence_20logo"/>
          <p:cNvPicPr/>
          <p:nvPr/>
        </p:nvPicPr>
        <p:blipFill>
          <a:blip r:embed="rId1"/>
          <a:stretch/>
        </p:blipFill>
        <p:spPr>
          <a:xfrm>
            <a:off x="2895480" y="2716200"/>
            <a:ext cx="32227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ative stat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ated as a mathematical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= l X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two main branches of physical sc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a scientific theory differs from a guess or an opi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quantitative and qualitative descrip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a scientific model is used, and give an example of a scientific mod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scientific law and give an examp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 Method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investi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plan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ob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always 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cienceCover"/>
          <p:cNvPicPr/>
          <p:nvPr/>
        </p:nvPicPr>
        <p:blipFill>
          <a:blip r:embed="rId1"/>
          <a:stretch/>
        </p:blipFill>
        <p:spPr>
          <a:xfrm>
            <a:off x="3711600" y="4648320"/>
            <a:ext cx="164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ystem of knowledge based on facts or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, studying, and experimenting to find the nature of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du_science_microscope_set_150x_450x_900x_reviews_292355_300"/>
          <p:cNvPicPr/>
          <p:nvPr/>
        </p:nvPicPr>
        <p:blipFill>
          <a:blip r:embed="rId1"/>
          <a:stretch/>
        </p:blipFill>
        <p:spPr>
          <a:xfrm>
            <a:off x="64008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any- study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logy- stud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- study of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 and Agri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- study of matter and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- study of forces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- study of the history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orology- study of the atmosphere and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pplication of science to meet human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chnology3_new"/>
          <p:cNvPicPr/>
          <p:nvPr/>
        </p:nvPicPr>
        <p:blipFill>
          <a:blip r:embed="rId1"/>
          <a:stretch/>
        </p:blipFill>
        <p:spPr>
          <a:xfrm>
            <a:off x="2895480" y="2717640"/>
            <a:ext cx="5410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Theor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tested, possible explanation of a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La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La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mmary of an observed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litative stateme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scribe the law of gravitation. Something you hold will fall to Earth when you let it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33:55Z</dcterms:created>
  <dc:creator>Chelsea</dc:creator>
  <dc:description/>
  <dc:language>en-US</dc:language>
  <cp:lastModifiedBy>geistc</cp:lastModifiedBy>
  <dcterms:modified xsi:type="dcterms:W3CDTF">2013-09-03T15:51:44Z</dcterms:modified>
  <cp:revision>20</cp:revision>
  <dc:subject/>
  <dc:title>Chapter 1</dc:title>
</cp:coreProperties>
</file>