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6EA-AE50-4FC9-A8DF-EE4A9F68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698E-2D45-407C-8223-70F931CF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631-8108-4219-8E07-DA7BFA00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7AC-BCFB-49E9-AC0A-6F6C0223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5A2-CBDD-4F57-8CA6-D9EBA003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B83-50F5-4CB0-AC4A-07640038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4D3-4535-4402-9F2B-B255B268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13E-7AB5-4DEC-9D86-0234C919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CFC-3B71-419B-849F-F5B400C7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E6D-514C-48D1-B328-E293A6A7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622-9ADF-465C-82CA-BE1F0880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CE51-B99A-4BEB-9192-6B933D0C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15D6-B907-421A-A721-E57917E2B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1 The Nature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CIence_20logo"/>
          <p:cNvPicPr/>
          <p:nvPr/>
        </p:nvPicPr>
        <p:blipFill>
          <a:blip r:embed="rId1"/>
          <a:stretch/>
        </p:blipFill>
        <p:spPr>
          <a:xfrm>
            <a:off x="2895480" y="2716200"/>
            <a:ext cx="322272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ntitative stat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ated as a mathematical equ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A= l X 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 the two main branches of physical sci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how science and technology depend on each 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how a scientific theory differs from a guess or an opin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quantitative and qualitative descrip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how a scientific model is used, and give an example of a scientific mod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: scientific law and give an examp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ce Method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investi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plan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ob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always test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cienceCover"/>
          <p:cNvPicPr/>
          <p:nvPr/>
        </p:nvPicPr>
        <p:blipFill>
          <a:blip r:embed="rId1"/>
          <a:stretch/>
        </p:blipFill>
        <p:spPr>
          <a:xfrm>
            <a:off x="3711600" y="4648320"/>
            <a:ext cx="1641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system of knowledge based on facts or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ing, studying, and experimenting to find the nature of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edu_science_microscope_set_150x_450x_900x_reviews_292355_300"/>
          <p:cNvPicPr/>
          <p:nvPr/>
        </p:nvPicPr>
        <p:blipFill>
          <a:blip r:embed="rId1"/>
          <a:stretch/>
        </p:blipFill>
        <p:spPr>
          <a:xfrm>
            <a:off x="640080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ranches of Sci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any- study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ology- study of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y- study of 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ine and Agricul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- study of matter and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s- study of forces a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ranches of Sci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logy- study of the history of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orology- study of the atmosphere and w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application of science to meet human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Technology3_new"/>
          <p:cNvPicPr/>
          <p:nvPr/>
        </p:nvPicPr>
        <p:blipFill>
          <a:blip r:embed="rId1"/>
          <a:stretch/>
        </p:blipFill>
        <p:spPr>
          <a:xfrm>
            <a:off x="2895480" y="2717640"/>
            <a:ext cx="541044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he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tific Theory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tested, possible explanation of a natural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Law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tific Law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summary of an observed natural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litative statement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scribe the law of gravitation. Something you hold will fall to Earth when you let it 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9:33:55Z</dcterms:created>
  <dc:creator>Chelsea</dc:creator>
  <dc:description/>
  <dc:language>en-US</dc:language>
  <cp:lastModifiedBy>geistc</cp:lastModifiedBy>
  <dcterms:modified xsi:type="dcterms:W3CDTF">2013-09-03T15:51:44Z</dcterms:modified>
  <cp:revision>20</cp:revision>
  <dc:subject/>
  <dc:title>Chapter 1</dc:title>
</cp:coreProperties>
</file>