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91B-B956-4FE6-B387-D0FE2406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9A6-A836-4A59-8C39-93CE2F36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D3F-BBF3-475E-B270-D86FE37E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65A-93E7-40EA-9488-2B1AE634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9C9-94F5-499C-9D5E-F30F5C02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DCC-DC71-40E4-8F67-5181A1D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5EB-545F-44A8-AAF0-C85C0D4F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C04-D93C-4F6A-8035-5221DD3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299-4336-4981-BF27-4428E28B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E84-10C7-4829-BE80-01AF71F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CD5-9887-4C8C-A902-4CA60E91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384-5523-45A7-B369-26936D6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149-2F7A-4A83-AA3B-562D39F7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CIence_20logo"/>
          <p:cNvPicPr/>
          <p:nvPr/>
        </p:nvPicPr>
        <p:blipFill>
          <a:blip r:embed="rId1"/>
          <a:stretch/>
        </p:blipFill>
        <p:spPr>
          <a:xfrm>
            <a:off x="2895480" y="2716200"/>
            <a:ext cx="32227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ative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ated as a mathemat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= l X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two main branches of physical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a scientific theory differs from a guess or an opi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quantitative and qualitative descrip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a scientific model is used, and give an example of a scientific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scientific law and give an exam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 Method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investi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pla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always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ienceCover"/>
          <p:cNvPicPr/>
          <p:nvPr/>
        </p:nvPicPr>
        <p:blipFill>
          <a:blip r:embed="rId1"/>
          <a:stretch/>
        </p:blipFill>
        <p:spPr>
          <a:xfrm>
            <a:off x="3711600" y="46483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ystem of knowledge based on facts or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, studying, and experimenting to find 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du_science_microscope_set_150x_450x_900x_reviews_292355_300"/>
          <p:cNvPicPr/>
          <p:nvPr/>
        </p:nvPicPr>
        <p:blipFill>
          <a:blip r:embed="rId1"/>
          <a:stretch/>
        </p:blipFill>
        <p:spPr>
          <a:xfrm>
            <a:off x="64008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any- study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logy- stud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- study of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and Agri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- study of matter and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- study of forces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- study of the history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ology- study of the atmosphere and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pplication of science to meet human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chnology3_new"/>
          <p:cNvPicPr/>
          <p:nvPr/>
        </p:nvPicPr>
        <p:blipFill>
          <a:blip r:embed="rId1"/>
          <a:stretch/>
        </p:blipFill>
        <p:spPr>
          <a:xfrm>
            <a:off x="2895480" y="2717640"/>
            <a:ext cx="5410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Theor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ested, possible explanation of a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La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La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mmary of an observed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ative stateme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scribe the law of gravitation. Something you hold will fall to Earth when you let it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55Z</dcterms:created>
  <dc:creator>Chelsea</dc:creator>
  <dc:description/>
  <dc:language>en-US</dc:language>
  <cp:lastModifiedBy>geistc</cp:lastModifiedBy>
  <dcterms:modified xsi:type="dcterms:W3CDTF">2013-09-03T15:51:44Z</dcterms:modified>
  <cp:revision>20</cp:revision>
  <dc:subject/>
  <dc:title>Chapter 1</dc:title>
</cp:coreProperties>
</file>