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26D-0278-42F1-A8E2-EEA76AC0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2BC-2A76-4F9B-AA94-25E6D5B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8CD-BA6B-418E-91CB-DED4B2E4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B16-62D2-46A9-AB4D-0EA25A43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266-D0D6-470B-B6F4-CD8D52F3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C06-BAA6-47C6-BAF7-E60C78BF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AE9-F946-44F9-80DC-CEA73BB8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24E-CEB4-40B2-B51F-1C446CC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9D7-9986-4BFB-BAA0-A5448D7F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20A-3E24-4FA8-BDDD-2EC6042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8FB-5BEA-4BF0-A887-BA820B4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B62-B91C-441F-A085-A0971099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1654-011E-4529-8D3F-DFAC21F92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 The Nature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CIence_20logo"/>
          <p:cNvPicPr/>
          <p:nvPr/>
        </p:nvPicPr>
        <p:blipFill>
          <a:blip r:embed="rId1"/>
          <a:stretch/>
        </p:blipFill>
        <p:spPr>
          <a:xfrm>
            <a:off x="2895480" y="2716200"/>
            <a:ext cx="32227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ative stat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stated as a mathemat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A= l X 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 the two main branches of physical sci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how a scientific theory differs from a guess or an opin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quantitative and qualitative descrip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how a scientific model is used, and give an example of a scientific mod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: scientific law and give an exam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 Method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investi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plan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sts always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ienceCover"/>
          <p:cNvPicPr/>
          <p:nvPr/>
        </p:nvPicPr>
        <p:blipFill>
          <a:blip r:embed="rId1"/>
          <a:stretch/>
        </p:blipFill>
        <p:spPr>
          <a:xfrm>
            <a:off x="3711600" y="46483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 system of knowledge based on facts or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, studying, and experimenting to find the nature of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du_science_microscope_set_150x_450x_900x_reviews_292355_300"/>
          <p:cNvPicPr/>
          <p:nvPr/>
        </p:nvPicPr>
        <p:blipFill>
          <a:blip r:embed="rId1"/>
          <a:stretch/>
        </p:blipFill>
        <p:spPr>
          <a:xfrm>
            <a:off x="640080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any- study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logy- study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- study of 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and Agri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- study of matter and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- study of forces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ranches of Scie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- study of the history of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ology- study of the atmosphere and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the application of science to meet human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chnology3_new"/>
          <p:cNvPicPr/>
          <p:nvPr/>
        </p:nvPicPr>
        <p:blipFill>
          <a:blip r:embed="rId1"/>
          <a:stretch/>
        </p:blipFill>
        <p:spPr>
          <a:xfrm>
            <a:off x="2895480" y="2717640"/>
            <a:ext cx="54104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he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Theory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tested, possible explanation of a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La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ientific Law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ummary of an observed natural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litative statement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scribe the law of gravitation. Something you hold will fall to Earth when you let it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33:55Z</dcterms:created>
  <dc:creator>Chelsea</dc:creator>
  <dc:description/>
  <dc:language>en-US</dc:language>
  <cp:lastModifiedBy>geistc</cp:lastModifiedBy>
  <dcterms:modified xsi:type="dcterms:W3CDTF">2013-09-03T15:51:44Z</dcterms:modified>
  <cp:revision>20</cp:revision>
  <dc:subject/>
  <dc:title>Chapter 1</dc:title>
</cp:coreProperties>
</file>