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DAD-DADF-491E-B555-BC9B4358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723-E2D3-41F4-ADFC-2CF4D265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558-5EAA-4D62-BD3D-96D26668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DDC-3A03-493E-A133-A161691D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564-A23E-4067-8393-571DF847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BE8-6C4B-447D-AD87-B759CB26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47A-A2A1-4652-BFC8-5053238C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527-4445-4C00-882D-A9F12A12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330-1419-4FF9-B5E8-41E3E259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613-24AF-4044-A44E-6EA5B4A8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6B2-0642-4D3A-9979-97699D54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B32-F325-4027-9AE6-789D46C6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9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3E28-B01A-4AC5-8DF2-9CB46A04D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titude &amp; Al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Latitud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distance north or south from the equator, and is expressed in degre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Altitude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height of an object above a reference point, such as sea level or the Earth’s surfa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mate varies with latitude and altitu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ample: climate gets colder as latitude and altitude increase. This is why it gets colder as you move further up a mountain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titude &amp; Al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rease latitude and altitude = biomes and vegetation chang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ees of tropical rainforests usually grow closer to the equator, while mosses and lichens of the tundra grow closer to the po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emperate region includes biomes such as temperate forests and grasslands, which usually have moderate temperatures and fertile soil that is ideal for agricult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6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rainforest_view-12451"/>
          <p:cNvPicPr/>
          <p:nvPr/>
        </p:nvPicPr>
        <p:blipFill>
          <a:blip r:embed="rId1"/>
          <a:stretch/>
        </p:blipFill>
        <p:spPr>
          <a:xfrm>
            <a:off x="609480" y="1363680"/>
            <a:ext cx="807732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emperate Forest (Deciduou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01-027v"/>
          <p:cNvPicPr/>
          <p:nvPr/>
        </p:nvPicPr>
        <p:blipFill>
          <a:blip r:embed="rId1"/>
          <a:stretch/>
        </p:blipFill>
        <p:spPr>
          <a:xfrm>
            <a:off x="685800" y="1647720"/>
            <a:ext cx="77724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aiga (Coniferous Forest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taiga_biome"/>
          <p:cNvPicPr/>
          <p:nvPr/>
        </p:nvPicPr>
        <p:blipFill>
          <a:blip r:embed="rId1"/>
          <a:stretch/>
        </p:blipFill>
        <p:spPr>
          <a:xfrm>
            <a:off x="914400" y="1271520"/>
            <a:ext cx="74674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avan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"/>
          <p:cNvPicPr/>
          <p:nvPr/>
        </p:nvPicPr>
        <p:blipFill>
          <a:blip r:embed="rId1"/>
          <a:stretch/>
        </p:blipFill>
        <p:spPr>
          <a:xfrm>
            <a:off x="380880" y="1225440"/>
            <a:ext cx="8534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emperate Grasslan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Prairi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uman-influence-temperate-grasslands-800x800"/>
          <p:cNvPicPr/>
          <p:nvPr/>
        </p:nvPicPr>
        <p:blipFill>
          <a:blip r:embed="rId1"/>
          <a:stretch/>
        </p:blipFill>
        <p:spPr>
          <a:xfrm>
            <a:off x="1066680" y="1836720"/>
            <a:ext cx="701064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arral (Grasslands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555_PS-Arizona-chaparral"/>
          <p:cNvPicPr/>
          <p:nvPr/>
        </p:nvPicPr>
        <p:blipFill>
          <a:blip r:embed="rId1"/>
          <a:stretch/>
        </p:blipFill>
        <p:spPr>
          <a:xfrm>
            <a:off x="762120" y="1833480"/>
            <a:ext cx="76197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The-Sonoran-Desert"/>
          <p:cNvPicPr/>
          <p:nvPr/>
        </p:nvPicPr>
        <p:blipFill>
          <a:blip r:embed="rId1"/>
          <a:stretch/>
        </p:blipFill>
        <p:spPr>
          <a:xfrm>
            <a:off x="990720" y="1314360"/>
            <a:ext cx="7391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how plants determine the name of a biom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temperature and precipitation determine which plants grow in an are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latitude and altitude affect which plants grow in an are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beautiful-snow-mountains-backgrounds-with-autumn-tundra-carbou-animals-pictures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how plants determine the name of a biom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temperature and precipitation determine which plants grow in an are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latitude and altitude affect which plants grow in an are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is a Bio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Biomes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large regions characterized by a specific type of climate and certain types of plant and animal communiti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ach biome is made up of many individual ecosystem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iomes &amp; Vege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lants that grow in an area determine other organisms that can live the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lants have characteristics, specialized structures, or adaptations (size, shape, color) that allow them to survive in that bio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ample: plants in the tundra tend to be short because they cannot obtain enough water to grow larg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errestrial Bi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6_01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iomes &amp; Clim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Climat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average weather conditions in an area over a long period of ti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mate determines which plants can grow in a certain area and defines the bio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emperature and precipitation are the two most important factors that determine a region’s clima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emperature &amp; Precipit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rganisms are adapted to live within a particular range of temperatures; they will not survive at temperatures too far above or below their rang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cipitation limits the organisms that can be found in a biome because all organisms need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emperature &amp; Precipit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ittle rainfall = little plant life in bio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igh temperatures and high amounts of precipitation = taller and denser veget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06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1:18:20Z</dcterms:created>
  <dc:creator>Chelsea</dc:creator>
  <dc:description/>
  <dc:language>en-US</dc:language>
  <cp:lastModifiedBy>geistc</cp:lastModifiedBy>
  <dcterms:modified xsi:type="dcterms:W3CDTF">2013-03-08T17:19:35Z</dcterms:modified>
  <cp:revision>17</cp:revision>
  <dc:subject/>
  <dc:title>Chapter 6</dc:title>
</cp:coreProperties>
</file>