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B67-8B93-4502-901D-BD409881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E59-D0A8-4F32-8E5F-31EAABFD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20E-28F8-4FC1-9AF0-94F4E94E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B77-7F18-43CB-B98B-108C6D37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9BA-909E-4F14-A3B2-07803F0E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4E6-880F-4C74-AE62-4DD97EBF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AB3-E736-41D9-94B0-45696B3B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8DF-F718-4742-89EB-4FB943C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DD1-D494-46A6-A2BA-4E639E4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983-7F6D-4E4D-A8F3-C64236B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35E-6EEE-453F-93E0-D13A0C5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7AA-8AF6-475B-8B34-700FFE9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9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5C66-BA73-40F4-A030-C5F57C5C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Latitud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distance north or south from the equator, and is expressed in degre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Altitu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height of an object above a reference point, such as sea level or the Earth’s surfa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varies with latitude and altitu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climate gets colder as latitude and altitude increase. This is why it gets colder as you move further up a mounta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titude &amp; Al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rease latitude and altitude = biomes and vegetation ch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ees of tropical rainforests usually grow closer to the equator, while mosses and lichens of the tundra grow closer to the po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emperate region includes biomes such as temperate forests and grasslands, which usually have moderate temperatures and fertile soil that is ideal for agricul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6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rainforest_view-12451"/>
          <p:cNvPicPr/>
          <p:nvPr/>
        </p:nvPicPr>
        <p:blipFill>
          <a:blip r:embed="rId1"/>
          <a:stretch/>
        </p:blipFill>
        <p:spPr>
          <a:xfrm>
            <a:off x="609480" y="1363680"/>
            <a:ext cx="80773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mperate Forest (Deciduou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01-027v"/>
          <p:cNvPicPr/>
          <p:nvPr/>
        </p:nvPicPr>
        <p:blipFill>
          <a:blip r:embed="rId1"/>
          <a:stretch/>
        </p:blipFill>
        <p:spPr>
          <a:xfrm>
            <a:off x="685800" y="1647720"/>
            <a:ext cx="77724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aiga (Coniferous Forest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taiga_biome"/>
          <p:cNvPicPr/>
          <p:nvPr/>
        </p:nvPicPr>
        <p:blipFill>
          <a:blip r:embed="rId1"/>
          <a:stretch/>
        </p:blipFill>
        <p:spPr>
          <a:xfrm>
            <a:off x="914400" y="1271520"/>
            <a:ext cx="7467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van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"/>
          <p:cNvPicPr/>
          <p:nvPr/>
        </p:nvPicPr>
        <p:blipFill>
          <a:blip r:embed="rId1"/>
          <a:stretch/>
        </p:blipFill>
        <p:spPr>
          <a:xfrm>
            <a:off x="380880" y="1225440"/>
            <a:ext cx="8534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mperate Grassland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Prairie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uman-influence-temperate-grasslands-800x800"/>
          <p:cNvPicPr/>
          <p:nvPr/>
        </p:nvPicPr>
        <p:blipFill>
          <a:blip r:embed="rId1"/>
          <a:stretch/>
        </p:blipFill>
        <p:spPr>
          <a:xfrm>
            <a:off x="1066680" y="1836720"/>
            <a:ext cx="70106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arral (Grassland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555_PS-Arizona-chaparral"/>
          <p:cNvPicPr/>
          <p:nvPr/>
        </p:nvPicPr>
        <p:blipFill>
          <a:blip r:embed="rId1"/>
          <a:stretch/>
        </p:blipFill>
        <p:spPr>
          <a:xfrm>
            <a:off x="762120" y="1833480"/>
            <a:ext cx="76197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The-Sonoran-Desert"/>
          <p:cNvPicPr/>
          <p:nvPr/>
        </p:nvPicPr>
        <p:blipFill>
          <a:blip r:embed="rId1"/>
          <a:stretch/>
        </p:blipFill>
        <p:spPr>
          <a:xfrm>
            <a:off x="990720" y="131436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beautiful-snow-mountains-backgrounds-with-autumn-tundra-carbou-animals-pictures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how plants determine the name of a biom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temperature and precipitation determine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w latitude and altitude affect which plants grow in an are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Bio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Biomes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arge regions characterized by a specific type of climate and certain types of plant and animal communiti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biome is made up of many individual ecosyste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Vege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that grow in an area determine other organisms that can live t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lants have characteristics, specialized structures, or adaptations (size, shape, color) that allow them to survive in that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ample: plants in the tundra tend to be short because they cannot obtain enough water to grow larg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rrestrial Bi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6_0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iomes &amp; Clim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 average weather conditions in an area over a long period of ti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mate determines which plants can grow in a certain area and defines the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emperature and precipitation are the two most important factors that determine a region’s clima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rganisms are adapted to live within a particular range of temperatures; they will not survive at temperatures too far above or below their rang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cipitation limits the organisms that can be found in a biome because all organisms need wa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mperature &amp; Precipi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ttle rainfall = little plant life in bio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igh temperatures and high amounts of precipitation = taller and denser veget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6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18:20Z</dcterms:created>
  <dc:creator>Chelsea</dc:creator>
  <dc:description/>
  <dc:language>en-US</dc:language>
  <cp:lastModifiedBy>geistc</cp:lastModifiedBy>
  <dcterms:modified xsi:type="dcterms:W3CDTF">2013-03-08T17:19:35Z</dcterms:modified>
  <cp:revision>17</cp:revision>
  <dc:subject/>
  <dc:title>Chapter 6</dc:title>
</cp:coreProperties>
</file>