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44D-1BCF-4672-BA78-3EBC3158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1E4-8200-46B5-8835-2AD7E013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DDB-A3F1-48D2-8D91-1E67BCAE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023-5216-4AFE-A2DF-376C9ADC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3FF-13CA-4276-8AC5-C6157E4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5FF-DC82-4602-975D-41A593F8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65-6811-4513-A59B-B20F890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DB5-DAB9-447C-819D-897806FF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B0C-E68C-48EA-9415-12D2FB0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B84-7C52-4B46-B328-002318B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72E-2361-4734-9352-1E7053B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6C6-6279-4701-9E05-7856483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9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240-7486-4C02-8B10-3D022B46E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Latitud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distance north or south from the equator, and is expressed in deg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Altitu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height of an object above a reference point, such as sea level or the Earth’s surfa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varies with latitude and altitu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climate gets colder as latitude and altitude increase. This is why it gets colder as you move further up a mount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rease latitude and altitude = biomes and vegetation ch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ees of tropical rainforests usually grow closer to the equator, while mosses and lichens of the tundra grow closer to the po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emperate region includes biomes such as temperate forests and grasslands, which usually have moderate temperatures and fertile soil that is ideal for agricul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6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rainforest_view-12451"/>
          <p:cNvPicPr/>
          <p:nvPr/>
        </p:nvPicPr>
        <p:blipFill>
          <a:blip r:embed="rId1"/>
          <a:stretch/>
        </p:blipFill>
        <p:spPr>
          <a:xfrm>
            <a:off x="609480" y="1363680"/>
            <a:ext cx="80773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mperate Forest (Deciduou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1-027v"/>
          <p:cNvPicPr/>
          <p:nvPr/>
        </p:nvPicPr>
        <p:blipFill>
          <a:blip r:embed="rId1"/>
          <a:stretch/>
        </p:blipFill>
        <p:spPr>
          <a:xfrm>
            <a:off x="685800" y="1647720"/>
            <a:ext cx="7772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aiga (Coniferous Forest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iga_biome"/>
          <p:cNvPicPr/>
          <p:nvPr/>
        </p:nvPicPr>
        <p:blipFill>
          <a:blip r:embed="rId1"/>
          <a:stretch/>
        </p:blipFill>
        <p:spPr>
          <a:xfrm>
            <a:off x="914400" y="1271520"/>
            <a:ext cx="7467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"/>
          <p:cNvPicPr/>
          <p:nvPr/>
        </p:nvPicPr>
        <p:blipFill>
          <a:blip r:embed="rId1"/>
          <a:stretch/>
        </p:blipFill>
        <p:spPr>
          <a:xfrm>
            <a:off x="380880" y="1225440"/>
            <a:ext cx="8534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Prairi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uman-influence-temperate-grasslands-800x800"/>
          <p:cNvPicPr/>
          <p:nvPr/>
        </p:nvPicPr>
        <p:blipFill>
          <a:blip r:embed="rId1"/>
          <a:stretch/>
        </p:blipFill>
        <p:spPr>
          <a:xfrm>
            <a:off x="1066680" y="1836720"/>
            <a:ext cx="7010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arral (Grassland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555_PS-Arizona-chaparral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he-Sonoran-Desert"/>
          <p:cNvPicPr/>
          <p:nvPr/>
        </p:nvPicPr>
        <p:blipFill>
          <a:blip r:embed="rId1"/>
          <a:stretch/>
        </p:blipFill>
        <p:spPr>
          <a:xfrm>
            <a:off x="990720" y="131436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eautiful-snow-mountains-backgrounds-with-autumn-tundra-carbou-animals-pictures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Bio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Biomes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arge regions characterized by a specific type of climate and certain types of plant and animal communit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biome is made up of many individual ecosyste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Vege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that grow in an area determine other organisms that can live t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characteristics, specialized structures, or adaptations (size, shape, color) that allow them to survive in that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plants in the tundra tend to be short because they cannot obtain enough water to grow lar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rrestrial Bi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6_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average weather conditions in an area over a long period of ti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determines which plants can grow in a certain area and defines the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emperature and precipitation are the two most important factors that determine a region’s clim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sms are adapted to live within a particular range of temperatures; they will not survive at temperatures too far above or below their r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cipitation limits the organisms that can be found in a biome because all organisms nee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ttle rainfall = little plant life in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igh temperatures and high amounts of precipitation = taller and denser vege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6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18:20Z</dcterms:created>
  <dc:creator>Chelsea</dc:creator>
  <dc:description/>
  <dc:language>en-US</dc:language>
  <cp:lastModifiedBy>geistc</cp:lastModifiedBy>
  <dcterms:modified xsi:type="dcterms:W3CDTF">2013-03-08T17:19:35Z</dcterms:modified>
  <cp:revision>17</cp:revision>
  <dc:subject/>
  <dc:title>Chapter 6</dc:title>
</cp:coreProperties>
</file>