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1ED-6673-4465-9B76-E5471947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B15-3659-4AAF-9DF1-4ED0DFEA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824-6E1F-4A8C-BB79-AF643FBD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A22-6D34-4ABD-82CA-C22871D0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0E1-AFCA-4D36-B9FA-4ED2F45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3E6-C63D-4BB2-B963-3BE03B9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943-446F-4707-9540-36A2CF5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EB0-599D-4110-9DC9-1DE6CD8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12F-681E-46D7-9E53-FC764A45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1CC-34D1-4D22-A1E2-5C1064C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E5A-1C56-4A41-9551-4FE7EFB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26D-2D77-4406-9576-F7A78D1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c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C3F-9AEB-4B73-B110-115D9C57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sslands, Desert, &amp;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Rhino-3"/>
          <p:cNvPicPr/>
          <p:nvPr/>
        </p:nvPicPr>
        <p:blipFill>
          <a:blip r:embed="rId1"/>
          <a:stretch/>
        </p:blipFill>
        <p:spPr>
          <a:xfrm>
            <a:off x="5610240" y="1285920"/>
            <a:ext cx="3533760" cy="557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lg01"/>
          <p:cNvPicPr/>
          <p:nvPr/>
        </p:nvPicPr>
        <p:blipFill>
          <a:blip r:embed="rId2"/>
          <a:stretch/>
        </p:blipFill>
        <p:spPr>
          <a:xfrm>
            <a:off x="2666880" y="1295280"/>
            <a:ext cx="3638520" cy="266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cover_zebra"/>
          <p:cNvPicPr/>
          <p:nvPr/>
        </p:nvPicPr>
        <p:blipFill>
          <a:blip r:embed="rId3"/>
          <a:stretch/>
        </p:blipFill>
        <p:spPr>
          <a:xfrm>
            <a:off x="2666880" y="3949560"/>
            <a:ext cx="3657600" cy="290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ush_elephant"/>
          <p:cNvPicPr/>
          <p:nvPr/>
        </p:nvPicPr>
        <p:blipFill>
          <a:blip r:embed="rId4"/>
          <a:stretch/>
        </p:blipFill>
        <p:spPr>
          <a:xfrm>
            <a:off x="0" y="3429000"/>
            <a:ext cx="272088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42-16970841"/>
          <p:cNvPicPr/>
          <p:nvPr/>
        </p:nvPicPr>
        <p:blipFill>
          <a:blip r:embed="rId5"/>
          <a:stretch/>
        </p:blipFill>
        <p:spPr>
          <a:xfrm>
            <a:off x="0" y="1295280"/>
            <a:ext cx="266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emperate grassland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munities dominated by grasses, few trees, and characterized by hot summers and cold winters, with intermediate rainfal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the most fertile soil of any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natural temperate grasslands remain-many have been replaced by farms growing crops such as corn, soybeans, and w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meadow%25202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on the interior of continents where too little rain falls for trees to grow and include the prairies of North Ame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avy precipitation is rare, allowing the hot temperatures in the summer to make the grasslands susceptible to fi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06_10"/>
          <p:cNvPicPr/>
          <p:nvPr/>
        </p:nvPicPr>
        <p:blipFill>
          <a:blip r:embed="rId1"/>
          <a:stretch/>
        </p:blipFill>
        <p:spPr>
          <a:xfrm>
            <a:off x="2057400" y="0"/>
            <a:ext cx="483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6_16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ot system of prairie grasses form dense layers- survive drought and fire allowing the plants to come back from year to ye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ew trees because of the lack of rainfall, fire, and constant win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ount of rainfall in the area determines types of plants that will gro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06_11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animals: bison and pronghorn antelope- have large, flat teeth for chewing the coarse prairie gras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airie dogs, owls, and badgers, live protected in underground burrows that protect them from predato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Temperate (Prairie)- 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arming and overgraz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ps cannot hold the soil in place as well as native grasses because the roots of crops are shallow and erosion occu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rosion also occurs as the grasses are constantly eaten and trampl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stant use can change these grasslands into desert-like biom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Chaparr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haparral (Steppe)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temperate woodland biome with broad leafed evergreen shrubs and is located in areas with hot, dry summers and mild, wet win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cated in the middle latitudes, about 30° north and south of the equ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marily in coastal areas that have Mediterranean clim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6_12"/>
          <p:cNvPicPr/>
          <p:nvPr/>
        </p:nvPicPr>
        <p:blipFill>
          <a:blip r:embed="rId1"/>
          <a:stretch/>
        </p:blipFill>
        <p:spPr>
          <a:xfrm>
            <a:off x="228600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06_15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vergreen shrubs and small trees that tend to grow in dense patches: Manzanita, scrub oak, and herbs (sage &amp; bay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small, leathery leaves that contain oils that promote burning, allowing natural fires to destroy competing t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ll adapted to fir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daptation: camouflage, shape or coloring that allows an animal to blend into its enviro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: quail, lizards, chipmunks, and mule deer have a brownish gray coloring that lets them move through the brush without being notic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rasslands- Chaparral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umans tend to develop lands of the chaparral for commercial and residential use because these biomes get a lot of sun, are near the oceans, and have a mild climate year 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ert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regions that have little or no vegetation, long periods without rain, and extreme temperatu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t &amp; cold deserts- driest places on Ear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ften located near large mountain ranges because mountains can block the passage of moisture-filled clouds, limiting precipi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Chelsea Barnes\Desktop\desert2_OPT.jpg"/>
          <p:cNvPicPr/>
          <p:nvPr/>
        </p:nvPicPr>
        <p:blipFill>
          <a:blip r:embed="rId2"/>
          <a:stretch/>
        </p:blipFill>
        <p:spPr>
          <a:xfrm>
            <a:off x="0" y="457200"/>
            <a:ext cx="9147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06_13"/>
          <p:cNvPicPr/>
          <p:nvPr/>
        </p:nvPicPr>
        <p:blipFill>
          <a:blip r:embed="rId1"/>
          <a:stretch/>
        </p:blipFill>
        <p:spPr>
          <a:xfrm>
            <a:off x="213372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rasslands- Savann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avannas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and scattered trees and shrubs that are found in tropical and subtropical habitats- dry climate (east Africa and western Indi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ceive little precipitation: wet season and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ctive during wet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 fires help restore nutrients to soil during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6_14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ave adaptations for obtaining and conserving water, which allows the plants to live in dry, desert condi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ucculents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ctuses) have thick, fleshy stems and leaves that conserve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ny plant roots spread out just under the surface to absorb as much rain as possi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C:\Documents and Settings\Chelsea Barnes\Desktop\Caccac03.jpg"/>
          <p:cNvPicPr/>
          <p:nvPr/>
        </p:nvPicPr>
        <p:blipFill>
          <a:blip r:embed="rId1"/>
          <a:stretch/>
        </p:blipFill>
        <p:spPr>
          <a:xfrm>
            <a:off x="0" y="3276720"/>
            <a:ext cx="47563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Chelsea Barnes\Desktop\cactus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ocuments and Settings\Chelsea Barnes\Desktop\saguaro-cactus.jpg"/>
          <p:cNvPicPr/>
          <p:nvPr/>
        </p:nvPicPr>
        <p:blipFill>
          <a:blip r:embed="rId3"/>
          <a:stretch/>
        </p:blipFill>
        <p:spPr>
          <a:xfrm>
            <a:off x="6426360" y="0"/>
            <a:ext cx="2717640" cy="40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Chelsea Barnes\Desktop\aloe1.jpg"/>
          <p:cNvPicPr/>
          <p:nvPr/>
        </p:nvPicPr>
        <p:blipFill>
          <a:blip r:embed="rId4"/>
          <a:stretch/>
        </p:blipFill>
        <p:spPr>
          <a:xfrm>
            <a:off x="0" y="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Chelsea Barnes\Desktop\cactus%208.jpg"/>
          <p:cNvPicPr/>
          <p:nvPr/>
        </p:nvPicPr>
        <p:blipFill>
          <a:blip r:embed="rId5"/>
          <a:stretch/>
        </p:blipFill>
        <p:spPr>
          <a:xfrm>
            <a:off x="2819520" y="0"/>
            <a:ext cx="37335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adapted to prevent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ptiles- thick, scaly skin that prevents water los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mphibians - estivating, or burying themselves in the ground and sleeping through the dry seas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cts - covered with body armor that helps retain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animals are noctur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Chelsea Barnes\Desktop\giant_k_rat.jpg"/>
          <p:cNvPicPr/>
          <p:nvPr/>
        </p:nvPicPr>
        <p:blipFill>
          <a:blip r:embed="rId1"/>
          <a:stretch/>
        </p:blipFill>
        <p:spPr>
          <a:xfrm>
            <a:off x="0" y="3276720"/>
            <a:ext cx="501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Chelsea Barnes\Desktop\turtle.jpg"/>
          <p:cNvPicPr/>
          <p:nvPr/>
        </p:nvPicPr>
        <p:blipFill>
          <a:blip r:embed="rId2"/>
          <a:stretch/>
        </p:blipFill>
        <p:spPr>
          <a:xfrm>
            <a:off x="3863880" y="3276720"/>
            <a:ext cx="528012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Chelsea Barnes\Desktop\desert_combo.jpg"/>
          <p:cNvPicPr/>
          <p:nvPr/>
        </p:nvPicPr>
        <p:blipFill>
          <a:blip r:embed="rId3"/>
          <a:stretch/>
        </p:blipFill>
        <p:spPr>
          <a:xfrm>
            <a:off x="5813280" y="0"/>
            <a:ext cx="3330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Chelsea Barnes\Desktop\scorpion_sm.jpg"/>
          <p:cNvPicPr/>
          <p:nvPr/>
        </p:nvPicPr>
        <p:blipFill>
          <a:blip r:embed="rId4"/>
          <a:stretch/>
        </p:blipFill>
        <p:spPr>
          <a:xfrm>
            <a:off x="0" y="0"/>
            <a:ext cx="4156200" cy="327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Chelsea Barnes\Desktop\rabbit.jpg"/>
          <p:cNvPicPr/>
          <p:nvPr/>
        </p:nvPicPr>
        <p:blipFill>
          <a:blip r:embed="rId5"/>
          <a:stretch/>
        </p:blipFill>
        <p:spPr>
          <a:xfrm>
            <a:off x="3657600" y="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Tundr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located in the Arctic or Antarctic and is characterized by very low winter temperatures, short, cool summers, and vegetation that consists of grasses, lichens, and perennial herb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mers are short, so only the top few centimeters of soil tha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Permafros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permanently frozen layer of soi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Chelsea Barnes\Desktop\139_Sunset%20in%20the%20Tundr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_20"/>
          <p:cNvPicPr/>
          <p:nvPr/>
        </p:nvPicPr>
        <p:blipFill>
          <a:blip r:embed="rId1"/>
          <a:stretch/>
        </p:blipFill>
        <p:spPr>
          <a:xfrm>
            <a:off x="228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06_2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ses and lichens cover rock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il is thin, so plants have wide shallow roots to help anch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flowering plants are short to avoid the wind and gain he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ody plants and perennials have evolved dwarf forms that grow flat along the grou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94366-004-E0DD2F22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Chelsea Barnes\Desktop\roof2.jpg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llions of migratory birds breed in the summer when food is abunda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ribou migrate in search of food an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ators such as wolves prey on migratory caribou, deer, and moo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dents burrow underground- stay activ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ctic foxes and snowshoe hares lose their brown summer coat for white fu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:\Documents and Settings\Chelsea Barnes\Desktop\red-throated%20loon.jpg"/>
          <p:cNvPicPr/>
          <p:nvPr/>
        </p:nvPicPr>
        <p:blipFill>
          <a:blip r:embed="rId1"/>
          <a:stretch/>
        </p:blipFill>
        <p:spPr>
          <a:xfrm>
            <a:off x="0" y="3200400"/>
            <a:ext cx="568656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Chelsea Barnes\Desktop\caribou-WhiteNecked-Riverside.jpg"/>
          <p:cNvPicPr/>
          <p:nvPr/>
        </p:nvPicPr>
        <p:blipFill>
          <a:blip r:embed="rId2"/>
          <a:stretch/>
        </p:blipFill>
        <p:spPr>
          <a:xfrm>
            <a:off x="3855960" y="0"/>
            <a:ext cx="52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36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4216320" y="3352680"/>
            <a:ext cx="4927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 Thre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ne of the most fragile biomes on the plan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od chains are relatively simple so they are easily disrupt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il was located here- oil exploration, extraction, and transpor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llution caused by spills or leaks of oil and other toxic materials may poison the food and water sources of organis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Chelsea Barnes\Desktop\rabbit.jpg"/>
          <p:cNvPicPr/>
          <p:nvPr/>
        </p:nvPicPr>
        <p:blipFill>
          <a:blip r:embed="rId1"/>
          <a:stretch/>
        </p:blipFill>
        <p:spPr>
          <a:xfrm>
            <a:off x="304920" y="2057400"/>
            <a:ext cx="4100400" cy="457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Documents and Settings\Chelsea Barnes\Desktop\arctic_hare.jpg"/>
          <p:cNvPicPr/>
          <p:nvPr/>
        </p:nvPicPr>
        <p:blipFill>
          <a:blip r:embed="rId2"/>
          <a:stretch/>
        </p:blipFill>
        <p:spPr>
          <a:xfrm>
            <a:off x="4572000" y="2895480"/>
            <a:ext cx="44197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difference between tropical and temperate grassland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the climate in a chaparral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wo desert animals and the adaptations that help them survi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ne threat to the tundra bio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6_09"/>
          <p:cNvPicPr/>
          <p:nvPr/>
        </p:nvPicPr>
        <p:blipFill>
          <a:blip r:embed="rId1"/>
          <a:stretch/>
        </p:blipFill>
        <p:spPr>
          <a:xfrm>
            <a:off x="213372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6_17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nt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rain falls during wet season- plants must be able to survive periods without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plants have large horizontal root systems to help them survive dry season and grow quickly after a fi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sses have adaptations to conserve water; Some trees shed leav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ost vegetation has thorns for protection from herbiv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anna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avanna_with_Zebras_and_Impalas,Tanzania,EL_DP30"/>
          <p:cNvPicPr/>
          <p:nvPr/>
        </p:nvPicPr>
        <p:blipFill>
          <a:blip r:embed="rId1"/>
          <a:stretch/>
        </p:blipFill>
        <p:spPr>
          <a:xfrm>
            <a:off x="0" y="1295280"/>
            <a:ext cx="5562720" cy="556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avanna6"/>
          <p:cNvPicPr/>
          <p:nvPr/>
        </p:nvPicPr>
        <p:blipFill>
          <a:blip r:embed="rId2"/>
          <a:stretch/>
        </p:blipFill>
        <p:spPr>
          <a:xfrm>
            <a:off x="5562720" y="1330200"/>
            <a:ext cx="358128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nimals of the 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zing herbivores (elephant) follow the rain to areas of new grass and fresh watering holes- predators stalk these animals for foo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imals give birth during the rainy season- food is abundant and increases the survival r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me species reduce competition for food by eating vegetation at different heights -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vertical feeding patter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3:17:11Z</dcterms:created>
  <dc:creator>Chelsea</dc:creator>
  <dc:description/>
  <dc:language>en-US</dc:language>
  <cp:lastModifiedBy>geistc</cp:lastModifiedBy>
  <dcterms:modified xsi:type="dcterms:W3CDTF">2013-03-07T12:12:13Z</dcterms:modified>
  <cp:revision>25</cp:revision>
  <dc:subject/>
  <dc:title>Chapter 6</dc:title>
</cp:coreProperties>
</file>