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png" ContentType="image/pn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3.png" ContentType="image/png"/>
  <Override PartName="/ppt/media/image3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5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6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35E-132E-4AE7-8F6D-6B0ACBC9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C768-33E3-459B-82E6-140418A7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E5F9-5F1A-4C63-A93D-42EA5430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BCF5-5ADE-481F-AAD6-82367332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592C-BF1F-42A8-8872-0E0BD2DD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4C3-C0AF-43B2-9071-A3276113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CE6B-BC11-4EB9-B8D2-3F146384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8B5C-8266-4F2B-A981-D66B5777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4F49-5ED4-4AB6-8D02-57783928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6C27-9A9D-4831-A7D6-406BA3E0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9E1B-7AE1-4136-9654-C975BD32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F352-D35D-42F6-9C6E-0B5E1E3C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c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499D-A22C-4A63-A343-F32042004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057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asslands, Desert, &amp; Tund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avanna anim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Rhino-3"/>
          <p:cNvPicPr/>
          <p:nvPr/>
        </p:nvPicPr>
        <p:blipFill>
          <a:blip r:embed="rId1"/>
          <a:stretch/>
        </p:blipFill>
        <p:spPr>
          <a:xfrm>
            <a:off x="5610240" y="1285920"/>
            <a:ext cx="3533760" cy="5572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lion_lg01"/>
          <p:cNvPicPr/>
          <p:nvPr/>
        </p:nvPicPr>
        <p:blipFill>
          <a:blip r:embed="rId2"/>
          <a:stretch/>
        </p:blipFill>
        <p:spPr>
          <a:xfrm>
            <a:off x="2666880" y="1295280"/>
            <a:ext cx="3638520" cy="2667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cover_zebra"/>
          <p:cNvPicPr/>
          <p:nvPr/>
        </p:nvPicPr>
        <p:blipFill>
          <a:blip r:embed="rId3"/>
          <a:stretch/>
        </p:blipFill>
        <p:spPr>
          <a:xfrm>
            <a:off x="2666880" y="3949560"/>
            <a:ext cx="3657600" cy="2908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bush_elephant"/>
          <p:cNvPicPr/>
          <p:nvPr/>
        </p:nvPicPr>
        <p:blipFill>
          <a:blip r:embed="rId4"/>
          <a:stretch/>
        </p:blipFill>
        <p:spPr>
          <a:xfrm>
            <a:off x="0" y="3429000"/>
            <a:ext cx="272088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42-16970841"/>
          <p:cNvPicPr/>
          <p:nvPr/>
        </p:nvPicPr>
        <p:blipFill>
          <a:blip r:embed="rId5"/>
          <a:stretch/>
        </p:blipFill>
        <p:spPr>
          <a:xfrm>
            <a:off x="0" y="1295280"/>
            <a:ext cx="2666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Grasslands- Temperate (Prairi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Temperate grassland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mmunities dominated by grasses, few trees, and characterized by hot summers and cold winters, with intermediate rainfall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ave the most fertile soil of any bio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ew natural temperate grasslands remain-many have been replaced by farms growing crops such as corn, soybeans, and whe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meadow%25202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Temperate (Prairie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cated on the interior of continents where too little rain falls for trees to grow and include the prairies of North Amer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eavy precipitation is rare, allowing the hot temperatures in the summer to make the grasslands susceptible to fi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06_10"/>
          <p:cNvPicPr/>
          <p:nvPr/>
        </p:nvPicPr>
        <p:blipFill>
          <a:blip r:embed="rId1"/>
          <a:stretch/>
        </p:blipFill>
        <p:spPr>
          <a:xfrm>
            <a:off x="2057400" y="0"/>
            <a:ext cx="483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06_16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Temperate (Prairie)- Pla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oot system of prairie grasses form dense layers- survive drought and fire allowing the plants to come back from year to yea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ew trees because of the lack of rainfall, fire, and constant wind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mount of rainfall in the area determines types of plants that will gro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06_11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Temperate (Prairie)- Animal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zing animals: bison and pronghorn antelope- have large, flat teeth for chewing the coarse prairie grass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airie dogs, owls, and badgers, live protected in underground burrows that protect them from pred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Temperate (Prairie)- Threa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arming and overgraz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rops cannot hold the soil in place as well as native grasses because the roots of crops are shallow and erosion occu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rosion also occurs as the grasses are constantly eaten and trampl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stant use can change these grasslands into desert-like biom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the difference between tropical and temperate grassland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the climate in a chaparral biom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wo desert animals and the adaptations that help them surviv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one threat to the tundra biom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Grasslands- Chaparra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Chaparral (Steppe)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- temperate woodland biome with broad leafed evergreen shrubs and is located in areas with hot, dry summers and mild, wet wint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cated in the middle latitudes, about 30° north and south of the equato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imarily in coastal areas that have Mediterranean climat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06_12"/>
          <p:cNvPicPr/>
          <p:nvPr/>
        </p:nvPicPr>
        <p:blipFill>
          <a:blip r:embed="rId1"/>
          <a:stretch/>
        </p:blipFill>
        <p:spPr>
          <a:xfrm>
            <a:off x="2286000" y="0"/>
            <a:ext cx="474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06_15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Chaparral 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vergreen shrubs and small trees that tend to grow in dense patches: Manzanita, scrub oak, and herbs (sage &amp; bay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lants have small, leathery leaves that contain oils that promote burning, allowing natural fires to destroy competing tre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ll adapted to fir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Chaparral 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daptation: camouflage, shape or coloring that allows an animal to blend into its environ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nimals: quail, lizards, chipmunks, and mule deer have a brownish gray coloring that lets them move through the brush without being notic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Chaparral 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umans tend to develop lands of the chaparral for commercial and residential use because these biomes get a lot of sun, are near the oceans, and have a mild climate year roun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Desert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- regions that have little or no vegetation, long periods without rain, and extreme temperatu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t &amp; cold deserts- driest places on Eart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ften located near large mountain ranges because mountains can block the passage of moisture-filled clouds, limiting precipit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Chelsea Barnes\Desktop\desert2_OPT.jpg"/>
          <p:cNvPicPr/>
          <p:nvPr/>
        </p:nvPicPr>
        <p:blipFill>
          <a:blip r:embed="rId2"/>
          <a:stretch/>
        </p:blipFill>
        <p:spPr>
          <a:xfrm>
            <a:off x="0" y="457200"/>
            <a:ext cx="91472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06_13"/>
          <p:cNvPicPr/>
          <p:nvPr/>
        </p:nvPicPr>
        <p:blipFill>
          <a:blip r:embed="rId1"/>
          <a:stretch/>
        </p:blipFill>
        <p:spPr>
          <a:xfrm>
            <a:off x="2133720" y="0"/>
            <a:ext cx="481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Grasslands- Savann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Savannas</a:t>
            </a:r>
            <a:r>
              <a:rPr b="1" lang="en-US" sz="35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5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sses and scattered trees and shrubs that are found in tropical and subtropical habitats- dry climate (east Africa and western India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eceive little precipitation: wet season and dry seas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ost animals active during wet seas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ss fires help restore nutrients to soil during dry seas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06_14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sert Pla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ave adaptations for obtaining and conserving water, which allows the plants to live in dry, desert condi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Succulents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- (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actuses) have thick, fleshy stems and leaves that conserve wat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any plant roots spread out just under the surface to absorb as much rain as possib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Content Placeholder 3" descr="C:\Documents and Settings\Chelsea Barnes\Desktop\Caccac03.jpg"/>
          <p:cNvPicPr/>
          <p:nvPr/>
        </p:nvPicPr>
        <p:blipFill>
          <a:blip r:embed="rId1"/>
          <a:stretch/>
        </p:blipFill>
        <p:spPr>
          <a:xfrm>
            <a:off x="0" y="3276720"/>
            <a:ext cx="4756320" cy="358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Documents and Settings\Chelsea Barnes\Desktop\cactus.jpg"/>
          <p:cNvPicPr/>
          <p:nvPr/>
        </p:nvPicPr>
        <p:blipFill>
          <a:blip r:embed="rId2"/>
          <a:stretch/>
        </p:blipFill>
        <p:spPr>
          <a:xfrm>
            <a:off x="3962520" y="297180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ocuments and Settings\Chelsea Barnes\Desktop\saguaro-cactus.jpg"/>
          <p:cNvPicPr/>
          <p:nvPr/>
        </p:nvPicPr>
        <p:blipFill>
          <a:blip r:embed="rId3"/>
          <a:stretch/>
        </p:blipFill>
        <p:spPr>
          <a:xfrm>
            <a:off x="6426360" y="0"/>
            <a:ext cx="2717640" cy="4076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Documents and Settings\Chelsea Barnes\Desktop\aloe1.jpg"/>
          <p:cNvPicPr/>
          <p:nvPr/>
        </p:nvPicPr>
        <p:blipFill>
          <a:blip r:embed="rId4"/>
          <a:stretch/>
        </p:blipFill>
        <p:spPr>
          <a:xfrm>
            <a:off x="0" y="0"/>
            <a:ext cx="2895480" cy="3860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Documents and Settings\Chelsea Barnes\Desktop\cactus%208.jpg"/>
          <p:cNvPicPr/>
          <p:nvPr/>
        </p:nvPicPr>
        <p:blipFill>
          <a:blip r:embed="rId5"/>
          <a:stretch/>
        </p:blipFill>
        <p:spPr>
          <a:xfrm>
            <a:off x="2819520" y="0"/>
            <a:ext cx="373356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sert Anim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nimals adapted to prevent water los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eptiles- thick, scaly skin that prevents water los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mphibians - estivating, or burying themselves in the ground and sleeping through the dry seas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sects - covered with body armor that helps retain wat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ost animals are nocturn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C:\Documents and Settings\Chelsea Barnes\Desktop\giant_k_rat.jpg"/>
          <p:cNvPicPr/>
          <p:nvPr/>
        </p:nvPicPr>
        <p:blipFill>
          <a:blip r:embed="rId1"/>
          <a:stretch/>
        </p:blipFill>
        <p:spPr>
          <a:xfrm>
            <a:off x="0" y="3276720"/>
            <a:ext cx="5014800" cy="3581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Documents and Settings\Chelsea Barnes\Desktop\turtle.jpg"/>
          <p:cNvPicPr/>
          <p:nvPr/>
        </p:nvPicPr>
        <p:blipFill>
          <a:blip r:embed="rId2"/>
          <a:stretch/>
        </p:blipFill>
        <p:spPr>
          <a:xfrm>
            <a:off x="3863880" y="3276720"/>
            <a:ext cx="5280120" cy="3581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Documents and Settings\Chelsea Barnes\Desktop\desert_combo.jpg"/>
          <p:cNvPicPr/>
          <p:nvPr/>
        </p:nvPicPr>
        <p:blipFill>
          <a:blip r:embed="rId3"/>
          <a:stretch/>
        </p:blipFill>
        <p:spPr>
          <a:xfrm>
            <a:off x="5813280" y="0"/>
            <a:ext cx="333072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Chelsea Barnes\Desktop\scorpion_sm.jpg"/>
          <p:cNvPicPr/>
          <p:nvPr/>
        </p:nvPicPr>
        <p:blipFill>
          <a:blip r:embed="rId4"/>
          <a:stretch/>
        </p:blipFill>
        <p:spPr>
          <a:xfrm>
            <a:off x="0" y="0"/>
            <a:ext cx="4156200" cy="327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Documents and Settings\Chelsea Barnes\Desktop\rabbit.jpg"/>
          <p:cNvPicPr/>
          <p:nvPr/>
        </p:nvPicPr>
        <p:blipFill>
          <a:blip r:embed="rId5"/>
          <a:stretch/>
        </p:blipFill>
        <p:spPr>
          <a:xfrm>
            <a:off x="3657600" y="0"/>
            <a:ext cx="2590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Tundra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- located in the Arctic or Antarctic and is characterized by very low winter temperatures, short, cool summers, and vegetation that consists of grasses, lichens, and perennial herb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ummers are short, so only the top few centimeters of soil tha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Permafros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- permanently frozen layer of soi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Documents and Settings\Chelsea Barnes\Desktop\139_Sunset%20in%20the%20Tundr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06_20"/>
          <p:cNvPicPr/>
          <p:nvPr/>
        </p:nvPicPr>
        <p:blipFill>
          <a:blip r:embed="rId1"/>
          <a:stretch/>
        </p:blipFill>
        <p:spPr>
          <a:xfrm>
            <a:off x="228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06_21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undra Pla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osses and lichens cover rock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oil is thin, so plants have wide shallow roots to help anchor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ost flowering plants are short to avoid the wind and gain he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oody plants and perennials have evolved dwarf forms that grow flat along the groun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94366-004-E0DD2F22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Documents and Settings\Chelsea Barnes\Desktop\roof2.jpg"/>
          <p:cNvPicPr/>
          <p:nvPr/>
        </p:nvPicPr>
        <p:blipFill>
          <a:blip r:embed="rId2"/>
          <a:stretch/>
        </p:blipFill>
        <p:spPr>
          <a:xfrm>
            <a:off x="990720" y="762120"/>
            <a:ext cx="7162560" cy="49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undra Anim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llions of migratory birds breed in the summer when food is abunda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aribou migrate in search of food and wat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ators such as wolves prey on migratory caribou, deer, and moo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odents burrow underground- stay acti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rctic foxes and snowshoe hares lose their brown summer coat for white fu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C:\Documents and Settings\Chelsea Barnes\Desktop\red-throated%20loon.jpg"/>
          <p:cNvPicPr/>
          <p:nvPr/>
        </p:nvPicPr>
        <p:blipFill>
          <a:blip r:embed="rId1"/>
          <a:stretch/>
        </p:blipFill>
        <p:spPr>
          <a:xfrm>
            <a:off x="0" y="3200400"/>
            <a:ext cx="5686560" cy="3657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Documents and Settings\Chelsea Barnes\Desktop\caribou-WhiteNecked-Riverside.jpg"/>
          <p:cNvPicPr/>
          <p:nvPr/>
        </p:nvPicPr>
        <p:blipFill>
          <a:blip r:embed="rId2"/>
          <a:stretch/>
        </p:blipFill>
        <p:spPr>
          <a:xfrm>
            <a:off x="3855960" y="0"/>
            <a:ext cx="5288040" cy="3581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3886200" cy="363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4"/>
          <a:stretch/>
        </p:blipFill>
        <p:spPr>
          <a:xfrm>
            <a:off x="4216320" y="3352680"/>
            <a:ext cx="4927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undra Threa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ne of the most fragile biomes on the plane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ood chains are relatively simple so they are easily disrupt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il was located here- oil exploration, extraction, and transport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ollution caused by spills or leaks of oil and other toxic materials may poison the food and water sources of organis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What are the differences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:\Documents and Settings\Chelsea Barnes\Desktop\rabbit.jpg"/>
          <p:cNvPicPr/>
          <p:nvPr/>
        </p:nvPicPr>
        <p:blipFill>
          <a:blip r:embed="rId1"/>
          <a:stretch/>
        </p:blipFill>
        <p:spPr>
          <a:xfrm>
            <a:off x="304920" y="2057400"/>
            <a:ext cx="4100400" cy="4572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C:\Documents and Settings\Chelsea Barnes\Desktop\arctic_hare.jpg"/>
          <p:cNvPicPr/>
          <p:nvPr/>
        </p:nvPicPr>
        <p:blipFill>
          <a:blip r:embed="rId2"/>
          <a:stretch/>
        </p:blipFill>
        <p:spPr>
          <a:xfrm>
            <a:off x="4572000" y="2895480"/>
            <a:ext cx="44197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the difference between tropical and temperate grassland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the climate in a chaparral biom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wo desert animals and the adaptations that help them surviv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one threat to the tundra biom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6_09"/>
          <p:cNvPicPr/>
          <p:nvPr/>
        </p:nvPicPr>
        <p:blipFill>
          <a:blip r:embed="rId1"/>
          <a:stretch/>
        </p:blipFill>
        <p:spPr>
          <a:xfrm>
            <a:off x="2133720" y="0"/>
            <a:ext cx="490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06_17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ants of the Savan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ost rain falls during wet season- plants must be able to survive periods without wat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ome plants have large horizontal root systems to help them survive dry season and grow quickly after a fi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sses have adaptations to conserve water; Some trees shed leav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ost vegetation has thorns for protection from herbivo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anna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Savanna_with_Zebras_and_Impalas,Tanzania,EL_DP30"/>
          <p:cNvPicPr/>
          <p:nvPr/>
        </p:nvPicPr>
        <p:blipFill>
          <a:blip r:embed="rId1"/>
          <a:stretch/>
        </p:blipFill>
        <p:spPr>
          <a:xfrm>
            <a:off x="0" y="1295280"/>
            <a:ext cx="5562720" cy="556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savanna6"/>
          <p:cNvPicPr/>
          <p:nvPr/>
        </p:nvPicPr>
        <p:blipFill>
          <a:blip r:embed="rId2"/>
          <a:stretch/>
        </p:blipFill>
        <p:spPr>
          <a:xfrm>
            <a:off x="5562720" y="1330200"/>
            <a:ext cx="358128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nimals of the Savan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zing herbivores (elephant) follow the rain to areas of new grass and fresh watering holes- predators stalk these animals for foo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nimals give birth during the rainy season- food is abundant and increases the survival ra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ome species reduce competition for food by eating vegetation at different heights - </a:t>
            </a: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vertical feeding patter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23:17:11Z</dcterms:created>
  <dc:creator>Chelsea</dc:creator>
  <dc:description/>
  <dc:language>en-US</dc:language>
  <cp:lastModifiedBy>geistc</cp:lastModifiedBy>
  <dcterms:modified xsi:type="dcterms:W3CDTF">2013-03-07T12:12:13Z</dcterms:modified>
  <cp:revision>25</cp:revision>
  <dc:subject/>
  <dc:title>Chapter 6</dc:title>
</cp:coreProperties>
</file>