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2.jpeg" ContentType="image/jpeg"/>
  <Override PartName="/ppt/media/image21.png" ContentType="image/png"/>
  <Override PartName="/ppt/media/image19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3.png" ContentType="image/png"/>
  <Override PartName="/ppt/media/image3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5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5.jpeg" ContentType="image/jpeg"/>
  <Override PartName="/ppt/media/image26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B78D-BB66-454E-876E-EA2563C11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7701-D5BF-4477-8C5F-BB4A4C06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F5DC-674F-4E0E-895C-F59CA421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FC64-90BB-4F01-9333-9DC470C1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D388-AAA8-4089-B568-A65114DD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51D8-7AFD-4778-B9C6-2FE3914A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07CD-8EF8-482A-AC34-7433891C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B50B-41FA-4074-BB11-E953B23B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5B68-405C-4544-A512-F4592730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988A-6ED7-4202-84B7-99CE0676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4AF2-422A-4296-859A-A04B3453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C530-6A7D-494A-982E-F147A08E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c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458B-B77E-4507-9EDD-B9E8DE5A8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0574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asslands, Desert, &amp; Tund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avanna anim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Rhino-3"/>
          <p:cNvPicPr/>
          <p:nvPr/>
        </p:nvPicPr>
        <p:blipFill>
          <a:blip r:embed="rId1"/>
          <a:stretch/>
        </p:blipFill>
        <p:spPr>
          <a:xfrm>
            <a:off x="5610240" y="1285920"/>
            <a:ext cx="3533760" cy="5572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lion_lg01"/>
          <p:cNvPicPr/>
          <p:nvPr/>
        </p:nvPicPr>
        <p:blipFill>
          <a:blip r:embed="rId2"/>
          <a:stretch/>
        </p:blipFill>
        <p:spPr>
          <a:xfrm>
            <a:off x="2666880" y="1295280"/>
            <a:ext cx="3638520" cy="2667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cover_zebra"/>
          <p:cNvPicPr/>
          <p:nvPr/>
        </p:nvPicPr>
        <p:blipFill>
          <a:blip r:embed="rId3"/>
          <a:stretch/>
        </p:blipFill>
        <p:spPr>
          <a:xfrm>
            <a:off x="2666880" y="3949560"/>
            <a:ext cx="3657600" cy="2908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bush_elephant"/>
          <p:cNvPicPr/>
          <p:nvPr/>
        </p:nvPicPr>
        <p:blipFill>
          <a:blip r:embed="rId4"/>
          <a:stretch/>
        </p:blipFill>
        <p:spPr>
          <a:xfrm>
            <a:off x="0" y="3429000"/>
            <a:ext cx="2720880" cy="342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42-16970841"/>
          <p:cNvPicPr/>
          <p:nvPr/>
        </p:nvPicPr>
        <p:blipFill>
          <a:blip r:embed="rId5"/>
          <a:stretch/>
        </p:blipFill>
        <p:spPr>
          <a:xfrm>
            <a:off x="0" y="1295280"/>
            <a:ext cx="2666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Grasslands- Temperate (Prairie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Temperate grasslands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mmunities dominated by grasses, few trees, and characterized by hot summers and cold winters, with intermediate rainfall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ave the most fertile soil of any biom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ew natural temperate grasslands remain-many have been replaced by farms growing crops such as corn, soybeans, and whe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meadow%25202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rasslands- Temperate (Prairie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Located on the interior of continents where too little rain falls for trees to grow and include the prairies of North Americ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eavy precipitation is rare, allowing the hot temperatures in the summer to make the grasslands susceptible to fir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06_10"/>
          <p:cNvPicPr/>
          <p:nvPr/>
        </p:nvPicPr>
        <p:blipFill>
          <a:blip r:embed="rId1"/>
          <a:stretch/>
        </p:blipFill>
        <p:spPr>
          <a:xfrm>
            <a:off x="2057400" y="0"/>
            <a:ext cx="4832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06_16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rasslands- Temperate (Prairie)- Pla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Root system of prairie grasses form dense layers- survive drought and fire allowing the plants to come back from year to yea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ew trees because of the lack of rainfall, fire, and constant wind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mount of rainfall in the area determines types of plants that will grow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06_11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rasslands- Temperate (Prairie)- Animal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razing animals: bison and pronghorn antelope- have large, flat teeth for chewing the coarse prairie grass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airie dogs, owls, and badgers, live protected in underground burrows that protect them from pred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rasslands- Temperate (Prairie)- Threa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arming and overgraz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rops cannot hold the soil in place as well as native grasses because the roots of crops are shallow and erosion occu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rosion also occurs as the grasses are constantly eaten and trampl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stant use can change these grasslands into desert-like biom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the difference between tropical and temperate grassland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the climate in a chaparral biom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wo desert animals and the adaptations that help them surviv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one threat to the tundra biom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Grasslands- Chaparra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Chaparral (Steppe)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- temperate woodland biome with broad leafed evergreen shrubs and is located in areas with hot, dry summers and mild, wet winte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Located in the middle latitudes, about 30° north and south of the equato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imarily in coastal areas that have Mediterranean climat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0" y="304920"/>
            <a:ext cx="914400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06_12"/>
          <p:cNvPicPr/>
          <p:nvPr/>
        </p:nvPicPr>
        <p:blipFill>
          <a:blip r:embed="rId1"/>
          <a:stretch/>
        </p:blipFill>
        <p:spPr>
          <a:xfrm>
            <a:off x="2286000" y="0"/>
            <a:ext cx="474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06_15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rasslands- Chaparral 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vergreen shrubs and small trees that tend to grow in dense patches: Manzanita, scrub oak, and herbs (sage &amp; bay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lants have small, leathery leaves that contain oils that promote burning, allowing natural fires to destroy competing tre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ll adapted to fir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rasslands- Chaparral 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daptation: camouflage, shape or coloring that allows an animal to blend into its environmen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nimals: quail, lizards, chipmunks, and mule deer have a brownish gray coloring that lets them move through the brush without being notic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rasslands- Chaparral 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hrea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umans tend to develop lands of the chaparral for commercial and residential use because these biomes get a lot of sun, are near the oceans, and have a mild climate year roun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eser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Deserts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- regions that have little or no vegetation, long periods without rain, and extreme temperatur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ot &amp; cold deserts- driest places on Eart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ften located near large mountain ranges because mountains can block the passage of moisture-filled clouds, limiting precipita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Documents and Settings\Chelsea Barnes\Desktop\desert2_OPT.jpg"/>
          <p:cNvPicPr/>
          <p:nvPr/>
        </p:nvPicPr>
        <p:blipFill>
          <a:blip r:embed="rId2"/>
          <a:stretch/>
        </p:blipFill>
        <p:spPr>
          <a:xfrm>
            <a:off x="0" y="457200"/>
            <a:ext cx="91472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06_13"/>
          <p:cNvPicPr/>
          <p:nvPr/>
        </p:nvPicPr>
        <p:blipFill>
          <a:blip r:embed="rId1"/>
          <a:stretch/>
        </p:blipFill>
        <p:spPr>
          <a:xfrm>
            <a:off x="2133720" y="0"/>
            <a:ext cx="481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Grasslands- Savann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Savannas</a:t>
            </a:r>
            <a:r>
              <a:rPr b="1" lang="en-US" sz="35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5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rasses and scattered trees and shrubs that are found in tropical and subtropical habitats- dry climate (east Africa and western India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Receive little precipitation: wet season and dry seas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ost animals active during wet seas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rass fires help restore nutrients to soil during dry seas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06_14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esert Pla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ave adaptations for obtaining and conserving water, which allows the plants to live in dry, desert condi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Succulents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- (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actuses) have thick, fleshy stems and leaves that conserve wat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any plant roots spread out just under the surface to absorb as much rain as possib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Content Placeholder 3" descr="C:\Documents and Settings\Chelsea Barnes\Desktop\Caccac03.jpg"/>
          <p:cNvPicPr/>
          <p:nvPr/>
        </p:nvPicPr>
        <p:blipFill>
          <a:blip r:embed="rId1"/>
          <a:stretch/>
        </p:blipFill>
        <p:spPr>
          <a:xfrm>
            <a:off x="0" y="3276720"/>
            <a:ext cx="4756320" cy="358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C:\Documents and Settings\Chelsea Barnes\Desktop\cactus.jpg"/>
          <p:cNvPicPr/>
          <p:nvPr/>
        </p:nvPicPr>
        <p:blipFill>
          <a:blip r:embed="rId2"/>
          <a:stretch/>
        </p:blipFill>
        <p:spPr>
          <a:xfrm>
            <a:off x="3962520" y="297180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Documents and Settings\Chelsea Barnes\Desktop\saguaro-cactus.jpg"/>
          <p:cNvPicPr/>
          <p:nvPr/>
        </p:nvPicPr>
        <p:blipFill>
          <a:blip r:embed="rId3"/>
          <a:stretch/>
        </p:blipFill>
        <p:spPr>
          <a:xfrm>
            <a:off x="6426360" y="0"/>
            <a:ext cx="2717640" cy="4076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Documents and Settings\Chelsea Barnes\Desktop\aloe1.jpg"/>
          <p:cNvPicPr/>
          <p:nvPr/>
        </p:nvPicPr>
        <p:blipFill>
          <a:blip r:embed="rId4"/>
          <a:stretch/>
        </p:blipFill>
        <p:spPr>
          <a:xfrm>
            <a:off x="0" y="0"/>
            <a:ext cx="2895480" cy="3860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C:\Documents and Settings\Chelsea Barnes\Desktop\cactus%208.jpg"/>
          <p:cNvPicPr/>
          <p:nvPr/>
        </p:nvPicPr>
        <p:blipFill>
          <a:blip r:embed="rId5"/>
          <a:stretch/>
        </p:blipFill>
        <p:spPr>
          <a:xfrm>
            <a:off x="2819520" y="0"/>
            <a:ext cx="373356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esert Anim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nimals adapted to prevent water los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Reptiles- thick, scaly skin that prevents water los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mphibians - estivating, or burying themselves in the ground and sleeping through the dry seas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sects - covered with body armor that helps retain wat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ost animals are nocturna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C:\Documents and Settings\Chelsea Barnes\Desktop\giant_k_rat.jpg"/>
          <p:cNvPicPr/>
          <p:nvPr/>
        </p:nvPicPr>
        <p:blipFill>
          <a:blip r:embed="rId1"/>
          <a:stretch/>
        </p:blipFill>
        <p:spPr>
          <a:xfrm>
            <a:off x="0" y="3276720"/>
            <a:ext cx="5014800" cy="3581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Documents and Settings\Chelsea Barnes\Desktop\turtle.jpg"/>
          <p:cNvPicPr/>
          <p:nvPr/>
        </p:nvPicPr>
        <p:blipFill>
          <a:blip r:embed="rId2"/>
          <a:stretch/>
        </p:blipFill>
        <p:spPr>
          <a:xfrm>
            <a:off x="3863880" y="3276720"/>
            <a:ext cx="5280120" cy="3581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Documents and Settings\Chelsea Barnes\Desktop\desert_combo.jpg"/>
          <p:cNvPicPr/>
          <p:nvPr/>
        </p:nvPicPr>
        <p:blipFill>
          <a:blip r:embed="rId3"/>
          <a:stretch/>
        </p:blipFill>
        <p:spPr>
          <a:xfrm>
            <a:off x="5813280" y="0"/>
            <a:ext cx="3330720" cy="4114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Documents and Settings\Chelsea Barnes\Desktop\scorpion_sm.jpg"/>
          <p:cNvPicPr/>
          <p:nvPr/>
        </p:nvPicPr>
        <p:blipFill>
          <a:blip r:embed="rId4"/>
          <a:stretch/>
        </p:blipFill>
        <p:spPr>
          <a:xfrm>
            <a:off x="0" y="0"/>
            <a:ext cx="4156200" cy="3276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C:\Documents and Settings\Chelsea Barnes\Desktop\rabbit.jpg"/>
          <p:cNvPicPr/>
          <p:nvPr/>
        </p:nvPicPr>
        <p:blipFill>
          <a:blip r:embed="rId5"/>
          <a:stretch/>
        </p:blipFill>
        <p:spPr>
          <a:xfrm>
            <a:off x="3657600" y="0"/>
            <a:ext cx="25909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und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Tundra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- located in the Arctic or Antarctic and is characterized by very low winter temperatures, short, cool summers, and vegetation that consists of grasses, lichens, and perennial herb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ummers are short, so only the top few centimeters of soil thaw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Permafrost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- permanently frozen layer of soi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C:\Documents and Settings\Chelsea Barnes\Desktop\139_Sunset%20in%20the%20Tundr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06_20"/>
          <p:cNvPicPr/>
          <p:nvPr/>
        </p:nvPicPr>
        <p:blipFill>
          <a:blip r:embed="rId1"/>
          <a:stretch/>
        </p:blipFill>
        <p:spPr>
          <a:xfrm>
            <a:off x="228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06_21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undra Pla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osses and lichens cover rock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oil is thin, so plants have wide shallow roots to help anchor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ost flowering plants are short to avoid the wind and gain he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oody plants and perennials have evolved dwarf forms that grow flat along the groun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94366-004-E0DD2F22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0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Documents and Settings\Chelsea Barnes\Desktop\roof2.jpg"/>
          <p:cNvPicPr/>
          <p:nvPr/>
        </p:nvPicPr>
        <p:blipFill>
          <a:blip r:embed="rId2"/>
          <a:stretch/>
        </p:blipFill>
        <p:spPr>
          <a:xfrm>
            <a:off x="990720" y="762120"/>
            <a:ext cx="7162560" cy="49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undra Anim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llions of migratory birds breed in the summer when food is abundan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aribou migrate in search of food and wat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ators such as wolves prey on migratory caribou, deer, and moos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Rodents burrow underground- stay activ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rctic foxes and snowshoe hares lose their brown summer coat for white fu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C:\Documents and Settings\Chelsea Barnes\Desktop\red-throated%20loon.jpg"/>
          <p:cNvPicPr/>
          <p:nvPr/>
        </p:nvPicPr>
        <p:blipFill>
          <a:blip r:embed="rId1"/>
          <a:stretch/>
        </p:blipFill>
        <p:spPr>
          <a:xfrm>
            <a:off x="0" y="3200400"/>
            <a:ext cx="5686560" cy="3657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:\Documents and Settings\Chelsea Barnes\Desktop\caribou-WhiteNecked-Riverside.jpg"/>
          <p:cNvPicPr/>
          <p:nvPr/>
        </p:nvPicPr>
        <p:blipFill>
          <a:blip r:embed="rId2"/>
          <a:stretch/>
        </p:blipFill>
        <p:spPr>
          <a:xfrm>
            <a:off x="3855960" y="0"/>
            <a:ext cx="5288040" cy="3581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3886200" cy="3635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4"/>
          <a:stretch/>
        </p:blipFill>
        <p:spPr>
          <a:xfrm>
            <a:off x="4216320" y="3352680"/>
            <a:ext cx="4927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undra Threa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ne of the most fragile biomes on the plane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Food chains are relatively simple so they are easily disrupt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il was located here- oil exploration, extraction, and transport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ollution caused by spills or leaks of oil and other toxic materials may poison the food and water sources of organism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What are the differences?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C:\Documents and Settings\Chelsea Barnes\Desktop\rabbit.jpg"/>
          <p:cNvPicPr/>
          <p:nvPr/>
        </p:nvPicPr>
        <p:blipFill>
          <a:blip r:embed="rId1"/>
          <a:stretch/>
        </p:blipFill>
        <p:spPr>
          <a:xfrm>
            <a:off x="304920" y="2057400"/>
            <a:ext cx="4100400" cy="4572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C:\Documents and Settings\Chelsea Barnes\Desktop\arctic_hare.jpg"/>
          <p:cNvPicPr/>
          <p:nvPr/>
        </p:nvPicPr>
        <p:blipFill>
          <a:blip r:embed="rId2"/>
          <a:stretch/>
        </p:blipFill>
        <p:spPr>
          <a:xfrm>
            <a:off x="4572000" y="2895480"/>
            <a:ext cx="441972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the difference between tropical and temperate grassland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the climate in a chaparral biom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wo desert animals and the adaptations that help them surviv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one threat to the tundra biom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06_09"/>
          <p:cNvPicPr/>
          <p:nvPr/>
        </p:nvPicPr>
        <p:blipFill>
          <a:blip r:embed="rId1"/>
          <a:stretch/>
        </p:blipFill>
        <p:spPr>
          <a:xfrm>
            <a:off x="2133720" y="0"/>
            <a:ext cx="4908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06_17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lants of the Savan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ost rain falls during wet season- plants must be able to survive periods without wat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ome plants have large horizontal root systems to help them survive dry season and grow quickly after a fi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rasses have adaptations to conserve water; Some trees shed leav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ost vegetation has thorns for protection from herbivor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anna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Savanna_with_Zebras_and_Impalas,Tanzania,EL_DP30"/>
          <p:cNvPicPr/>
          <p:nvPr/>
        </p:nvPicPr>
        <p:blipFill>
          <a:blip r:embed="rId1"/>
          <a:stretch/>
        </p:blipFill>
        <p:spPr>
          <a:xfrm>
            <a:off x="0" y="1295280"/>
            <a:ext cx="5562720" cy="5562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savanna6"/>
          <p:cNvPicPr/>
          <p:nvPr/>
        </p:nvPicPr>
        <p:blipFill>
          <a:blip r:embed="rId2"/>
          <a:stretch/>
        </p:blipFill>
        <p:spPr>
          <a:xfrm>
            <a:off x="5562720" y="1330200"/>
            <a:ext cx="3581280" cy="55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nimals of the Savan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razing herbivores (elephant) follow the rain to areas of new grass and fresh watering holes- predators stalk these animals for foo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nimals give birth during the rainy season- food is abundant and increases the survival ra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ome species reduce competition for food by eating vegetation at different heights - </a:t>
            </a: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vertical feeding patter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23:17:11Z</dcterms:created>
  <dc:creator>Chelsea</dc:creator>
  <dc:description/>
  <dc:language>en-US</dc:language>
  <cp:lastModifiedBy>geistc</cp:lastModifiedBy>
  <dcterms:modified xsi:type="dcterms:W3CDTF">2013-03-07T12:12:13Z</dcterms:modified>
  <cp:revision>25</cp:revision>
  <dc:subject/>
  <dc:title>Chapter 6</dc:title>
</cp:coreProperties>
</file>